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EAB-AAEA-4E8A-94DE-3CC1FF2E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8DA-74EC-4357-85A7-9F0F9F66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4DDAD-8CAC-4774-ABAF-ED5BA5B9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C4C54-DB06-490B-8747-FDA3BED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4CFA2-E12D-4A1E-9E31-63A33AC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7AD5B-940D-4362-9B00-C4DB43F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6EEB6-FBF2-4001-85E2-BC3E0D9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B6393-D947-4797-BD90-1625456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CEDEA-DBBF-46B7-B5A2-C66C0E5D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ECEFB-EB07-409B-B7A8-A7009A58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B00B8-3671-4026-975C-F533C813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6F437-2ED9-4A65-8F4F-8CAC7447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DF5-8462-4567-BE9B-E6DEA6DA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ADD0-B247-4965-BE86-50BF96B9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71909-9B97-4BC6-9B99-B4DBB490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3D7DE-064D-449B-B94D-F9DC3B17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603C1-CE48-4314-971E-B24F5F7F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4F617-888C-404D-A710-87E625D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C300B-AE99-48CA-8605-D63A0D0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61FC7-DB75-41FC-BE88-58673A4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15A61-22F2-4A42-A392-BD748BB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2023A-2107-43D5-AD7F-81695056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D202-C917-41FD-8386-72D12258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4A3-D381-4BC6-B90B-5E858276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44EE2-E2F8-4DCB-8A53-4E5A5F00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09317-1F0F-4070-A57E-ECF8C17E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06E4-DEB4-4FB5-A75B-9C12CD4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3D7F1-6511-4720-B131-00F26D68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2BDA4-9C49-4388-986D-D2E5132E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9F2C-92CD-4DBF-8E84-24D7ED3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EFEDF-0D20-43A7-8D93-2BD03087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9085A-48B7-45BD-828E-5FEC922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9DB58-73FF-4DE9-98D8-07E0B4C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F4E02-BCE5-4307-A694-70BDF642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F41-9657-457E-A42C-C0D3F24D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6A1CB-EEFC-4D65-B5D4-0DBBF29A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F7CB3-CBB8-46B6-8EDD-5B755623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4973-3DC1-48B7-BB0E-230CE131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8783-C4ED-4731-A85F-37172E3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F68F7-8185-4A5F-ACC8-C8505175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56996-953E-4FD5-A1D9-9F507A21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339BC-DD8F-4B68-9E13-4C1CEFE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5B426-0AF2-4530-BF5F-1306A3AD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F88EC-12A6-4D3E-9765-AE95878E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45355-5BEB-4CAB-A2B4-4B4EBB4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00EC-4E2B-412D-A8A5-D74987F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97FCD-9D07-48ED-8B77-69C40F6E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77E35-9CAE-4CB5-AFBE-DB26E5E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E5F79-4768-48A9-AD05-EA2E26F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E7D3-B7E3-4011-BAF8-76FEF72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1055-8D60-49EB-9CB9-A62A4007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F7FF1C-AB70-4458-AACC-8178E20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A8F01A-E236-4ECA-8DF0-BAD52CF3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97275F-6674-4F8D-A0B1-C1956D9E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8EC94-FD98-405C-9E20-DDDF3304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59EE02-4E13-4E1B-9D8F-AA316B0F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0AFF-B93D-4E71-BCC2-1E36DF5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3B2A44-05E5-4C40-B18C-F6A9C64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82093B-625D-494C-AB1E-01D2134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CD4025-3F62-4ABE-BFC1-7EABFC27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38040F-6400-46D0-8890-C731574F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D93F72-DF2D-4B36-A3CD-F654126B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DE6B9-9356-4BF5-BCF2-0B0C4A3E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73BAF4-2A72-472E-AA53-F3808670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ADCF5-B02C-4381-BD02-A54ECC68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E2030-EDD9-4B2F-BE9E-436CCB1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3D204-9A1A-4E98-B74C-AAB4C975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79C6-9B84-4F46-BA1E-3DD81D25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F1ED6-9F1A-4AE9-A8E4-D2F3239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0180C-D6DF-44AD-93D5-F6F6B6A9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72F2C-849B-4CA6-9AFC-785F7D36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4D9A3-9407-40C0-B77E-8CD73932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EE95C-9D58-408B-8A71-810E60A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7E193-D1C4-4100-B376-F7B0EEA8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EAECC-4DDE-4B28-BF28-BD57DD5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2E416-C6AC-434A-9F55-7BA85F17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DB5F5-47E6-4C74-94D2-8280A81B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C0E22-504F-4685-8E7C-2FA4EDA7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F580-983A-4218-904E-8BF419E3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F6A22-5908-485C-919C-DCCA415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2352C-7F6A-4E33-8C70-936DE2FB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CF860-13F2-495D-AA8A-C6C9DD75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795EB-067D-49FF-B700-A4FFC055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1FB70-32D0-4214-BE3E-CC3311D0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EE52F-91C2-4828-9697-4543804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BFFB9-34D5-4EAD-9A89-C65F79D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323E0-72AC-4E79-A4B5-BE4A4C5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92AC2-7D09-45D8-905A-7C752C80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12413-2BE3-478D-8EAE-0E7F5C1C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8876-A5D6-4FF1-A860-E320634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108BA-C588-46C7-A712-2CCC4CC3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E6E1-598C-477F-8C8C-EB0BC73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F64-BA19-4F95-9BC8-B8DAA1D8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D960-50D0-4DC6-A66D-EE3D5ADB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34D9-BC09-4FCD-8E24-7FA45B7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56D2-A04A-4394-B86E-8EA39671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496C-BF1A-4C3D-BE96-1278152F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D35-4792-44DC-BC6E-AB5B3FBB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0DD5-F7F5-4A51-A1F1-E1CF329D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DC70-54ED-463F-A4A5-C33AF4A7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63CB-5EA9-454E-AEF5-2AD48BB9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F120-E7D9-41D8-87D9-60EA24B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1948-39FB-4A30-8B94-A51D4B11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4C1-06B9-4BCC-9018-78ACFC3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5D33-EA14-44A5-82E7-C67A9254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E3B5-BAE0-4D6E-A05C-59F427EE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25C55-A56C-4CA1-9FD2-73BE6E1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E0133-72AC-4FE0-9394-812F6E7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E93A-2C80-4385-9A6F-8A5485EA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29E4E-6106-4C3E-B981-30F70EF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508F-FE20-43F3-9109-ED485B4F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9B4F-7958-40BF-83C0-A89CA668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B717-3D0B-487F-8407-5C48DDE8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B0D8-927F-431F-8A09-D74B7A6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AC8-CB3E-4B83-B743-7C29BC5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7EC12-1133-4F60-930F-82B8C76E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A49A-1636-41A3-A65E-78DC470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DA08-5268-4D67-8B90-A60291F4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5621-8CA1-4764-8BF2-09927E5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E548F-88EA-4BA2-AB68-8A2E0C2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D427-2E93-4C05-8CBF-09586D60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86C1C-EACB-49DC-A7BD-3433D3D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6F1B-157E-4747-A5A8-D147729D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0691-3087-42F1-9FB9-3521F9A0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9C6A-1538-4444-8898-F878FD6B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E02-23B5-41C8-BF0C-6F2F0A2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5615-92F4-49D0-84CF-1F83659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03C74-9FE8-49F8-9D4F-1693E704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C7CC0-5965-4661-B7FC-1B413107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BA757-E9AE-4DE0-8095-28779AF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6DF7-317C-4D9F-8382-1C3A4D00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E6716-E022-4018-B24F-BFA4989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B6C7-620E-4B8F-ADB7-AAD5DE6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AC2B-0EE9-4E20-93FC-184DE86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0184-43BA-4A7D-8FAE-09DCEDA3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D27A-4D84-4CED-9FAF-C8521932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9DE-38BE-432E-B6E5-C8D97281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2E49-0578-4778-B1A6-17758402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F7A35-1207-4441-9623-0B105605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2DA24-68BF-4D8D-8D5F-55F1E36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B496C-EC5C-4438-87EC-7AB023E3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B8968-638A-4EA1-A4CA-B913EAD6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8D7E-5BCC-449D-BFBE-E2C85AE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FAE7-DA61-4B7C-AA07-9A75766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3013E-FAC0-4FA2-B617-3F51701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4992-4B4E-4EC5-A140-AD813F4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BB576-AC5A-4B10-AA45-ACDA9BBB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EB5-A8D5-49A4-9393-C94599C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76DF5-AFBC-4A13-9913-89AD9EBE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5980-56F9-446B-8EF9-01468634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0B80F-F79B-4DBD-8C3F-F6281258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8468-CD17-4723-B6E9-DE057AFA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568FB-1C58-470C-B0AB-1824BAD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00BAE-6354-4936-93A4-C8B28CB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1223-8895-499A-9323-8ED56EC2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D0170-C739-4CEA-BBC5-EE42130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F8A28-3918-49D0-9098-3E9FE236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4CA2-E0CE-4F4E-92A1-F9E0B556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24A-08BC-4F50-8B02-C3FDD9FE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35C30-0B48-474E-9E86-B312D85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22833-E614-4E59-899F-F62FA6C3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4F57-4449-45C7-A572-00658C8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6351-5351-4883-B933-7D92DBA3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A08C-117B-42A7-A3A1-6E6538DF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ADBDD-F123-4F37-9A6A-61C52744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D4CEE-19BF-4B3B-93E2-593814D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6EA0-654C-4E51-9135-CB6F416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DF541-16FC-4C7E-B425-607C4912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C5731-4BAB-42CF-8D2C-10FC3B4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4EC-B6D3-48EB-BBC3-AC43FA2B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F8C4-30D8-41C0-8DC3-F0A8D9BB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C8A9-3756-4309-BA4C-3B327B92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D883-857C-4C61-823A-9596C2D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F2CF2-5076-480B-9BC3-460052A8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1BDFF-EBFB-447A-A5DC-5DC137C6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ED4CA-5428-4467-976C-251D91F7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021BA-39FB-4146-8B6D-A85F0B70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E8FA7-2A2E-4A0A-84AA-36CA6F9D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F0296-F837-406D-BD45-CD40C366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9740-6B67-4DA1-9A1F-B763B87B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D46-EBD6-4B80-B015-B2F2B0B01217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41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4911-D4A5-43C9-BD9B-D9DEEE69A19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261-E234-402F-8AC4-72FF511AB12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506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C5CF-9516-4FB4-9FF4-DA245776341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553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2D6C-0084-4541-9959-FD9C3A4DB73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60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0A71-6FA2-4157-9A74-559C3A5F58A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0B2D-5112-49C6-9F0F-BDC54B1D984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78D-F427-4B07-8D3D-19E7FD9D3D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D62-EB9B-4E76-9D55-AB041791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1F2A-C1C0-4DB2-9134-9C57B2A2E9F1}" type="slidenum">
              <a:rPr b="0" lang="en-NZ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130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173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176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A7CE-CB54-419E-9CD0-C5C110E1C206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226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865A-293D-440C-B74D-FE481E91265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4325-203B-4C90-A7B0-21F3F716DBF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22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5F7-92F8-44C9-A225-9FA405C24E06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69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4818-B178-483C-9949-34A70AAE299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488880" y="3459240"/>
            <a:ext cx="38181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6"/>
          <p:cNvGrpSpPr/>
          <p:nvPr/>
        </p:nvGrpSpPr>
        <p:grpSpPr>
          <a:xfrm>
            <a:off x="6354720" y="2287440"/>
            <a:ext cx="1706760" cy="2040120"/>
            <a:chOff x="6354720" y="2287440"/>
            <a:chExt cx="1706760" cy="2040120"/>
          </a:xfrm>
        </p:grpSpPr>
        <p:sp>
          <p:nvSpPr>
            <p:cNvPr id="748" name="Rectangle 7"/>
            <p:cNvSpPr/>
            <p:nvPr/>
          </p:nvSpPr>
          <p:spPr>
            <a:xfrm>
              <a:off x="6464160" y="2432160"/>
              <a:ext cx="28800" cy="18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"/>
            <p:cNvSpPr/>
            <p:nvPr/>
          </p:nvSpPr>
          <p:spPr>
            <a:xfrm>
              <a:off x="6404040" y="2287440"/>
              <a:ext cx="149040" cy="147960"/>
            </a:xfrm>
            <a:custGeom>
              <a:avLst/>
              <a:gdLst>
                <a:gd name="textAreaLeft" fmla="*/ 0 w 149040"/>
                <a:gd name="textAreaRight" fmla="*/ 149040 w 14904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9"/>
            <p:cNvSpPr/>
            <p:nvPr/>
          </p:nvSpPr>
          <p:spPr>
            <a:xfrm>
              <a:off x="6464160" y="3135240"/>
              <a:ext cx="2880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0"/>
            <p:cNvSpPr/>
            <p:nvPr/>
          </p:nvSpPr>
          <p:spPr>
            <a:xfrm>
              <a:off x="6354720" y="4102200"/>
              <a:ext cx="15620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>
              <a:off x="7913520" y="4041720"/>
              <a:ext cx="147960" cy="15084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198" h="201">
                  <a:moveTo>
                    <a:pt x="0" y="201"/>
                  </a:moveTo>
                  <a:lnTo>
                    <a:pt x="198" y="100"/>
                  </a:lnTo>
                  <a:lnTo>
                    <a:pt x="0" y="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Rectangle 12"/>
          <p:cNvSpPr/>
          <p:nvPr/>
        </p:nvSpPr>
        <p:spPr>
          <a:xfrm>
            <a:off x="6713640" y="4260960"/>
            <a:ext cx="1333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408600" y="347400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in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2882880" y="2255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ub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6"/>
          <p:cNvSpPr/>
          <p:nvPr/>
        </p:nvSpPr>
        <p:spPr>
          <a:xfrm>
            <a:off x="401040" y="44719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17"/>
          <p:cNvGrpSpPr/>
          <p:nvPr/>
        </p:nvGrpSpPr>
        <p:grpSpPr>
          <a:xfrm>
            <a:off x="412920" y="1027080"/>
            <a:ext cx="2131920" cy="1071000"/>
            <a:chOff x="412920" y="1027080"/>
            <a:chExt cx="2131920" cy="1071000"/>
          </a:xfrm>
        </p:grpSpPr>
        <p:sp>
          <p:nvSpPr>
            <p:cNvPr id="759" name="Rectangle 18"/>
            <p:cNvSpPr/>
            <p:nvPr/>
          </p:nvSpPr>
          <p:spPr>
            <a:xfrm>
              <a:off x="412920" y="1027080"/>
              <a:ext cx="21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9"/>
            <p:cNvSpPr/>
            <p:nvPr/>
          </p:nvSpPr>
          <p:spPr>
            <a:xfrm>
              <a:off x="412920" y="163836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20"/>
          <p:cNvSpPr/>
          <p:nvPr/>
        </p:nvSpPr>
        <p:spPr>
          <a:xfrm>
            <a:off x="852120" y="225108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1"/>
          <p:cNvSpPr/>
          <p:nvPr/>
        </p:nvSpPr>
        <p:spPr>
          <a:xfrm>
            <a:off x="413280" y="286236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22"/>
          <p:cNvGrpSpPr/>
          <p:nvPr/>
        </p:nvGrpSpPr>
        <p:grpSpPr>
          <a:xfrm>
            <a:off x="5960160" y="3769920"/>
            <a:ext cx="2129760" cy="1892520"/>
            <a:chOff x="5960160" y="3769920"/>
            <a:chExt cx="2129760" cy="1892520"/>
          </a:xfrm>
        </p:grpSpPr>
        <p:sp>
          <p:nvSpPr>
            <p:cNvPr id="764" name="Rectangle 23"/>
            <p:cNvSpPr/>
            <p:nvPr/>
          </p:nvSpPr>
          <p:spPr>
            <a:xfrm>
              <a:off x="5960160" y="5160960"/>
              <a:ext cx="205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o inters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4"/>
            <p:cNvSpPr/>
            <p:nvPr/>
          </p:nvSpPr>
          <p:spPr>
            <a:xfrm>
              <a:off x="5973840" y="5173560"/>
              <a:ext cx="21160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5"/>
            <p:cNvSpPr/>
            <p:nvPr/>
          </p:nvSpPr>
          <p:spPr>
            <a:xfrm flipV="1">
              <a:off x="7139160" y="376992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Group 26"/>
          <p:cNvGrpSpPr/>
          <p:nvPr/>
        </p:nvGrpSpPr>
        <p:grpSpPr>
          <a:xfrm>
            <a:off x="6232680" y="2647800"/>
            <a:ext cx="2611080" cy="943200"/>
            <a:chOff x="6232680" y="2647800"/>
            <a:chExt cx="2611080" cy="943200"/>
          </a:xfrm>
        </p:grpSpPr>
        <p:sp>
          <p:nvSpPr>
            <p:cNvPr id="768" name="Freeform 27"/>
            <p:cNvSpPr/>
            <p:nvPr/>
          </p:nvSpPr>
          <p:spPr>
            <a:xfrm>
              <a:off x="6232680" y="2647800"/>
              <a:ext cx="1463400" cy="943200"/>
            </a:xfrm>
            <a:custGeom>
              <a:avLst/>
              <a:gdLst>
                <a:gd name="textAreaLeft" fmla="*/ 0 w 1463400"/>
                <a:gd name="textAreaRight" fmla="*/ 1463400 w 1463400"/>
                <a:gd name="textAreaTop" fmla="*/ 0 h 943200"/>
                <a:gd name="textAreaBottom" fmla="*/ 943560 h 943200"/>
              </a:gdLst>
              <a:ahLst/>
              <a:rect l="textAreaLeft" t="textAreaTop" r="textAreaRight" b="textAreaBottom"/>
              <a:pathLst>
                <a:path w="1968" h="1267">
                  <a:moveTo>
                    <a:pt x="12" y="0"/>
                  </a:moveTo>
                  <a:lnTo>
                    <a:pt x="0" y="19"/>
                  </a:lnTo>
                  <a:lnTo>
                    <a:pt x="1956" y="1267"/>
                  </a:lnTo>
                  <a:lnTo>
                    <a:pt x="1968" y="124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28"/>
            <p:cNvSpPr/>
            <p:nvPr/>
          </p:nvSpPr>
          <p:spPr>
            <a:xfrm>
              <a:off x="7589880" y="307980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29"/>
          <p:cNvGrpSpPr/>
          <p:nvPr/>
        </p:nvGrpSpPr>
        <p:grpSpPr>
          <a:xfrm>
            <a:off x="5912280" y="3033720"/>
            <a:ext cx="2931480" cy="1686960"/>
            <a:chOff x="5912280" y="3033720"/>
            <a:chExt cx="2931480" cy="1686960"/>
          </a:xfrm>
        </p:grpSpPr>
        <p:sp>
          <p:nvSpPr>
            <p:cNvPr id="771" name="Freeform 30"/>
            <p:cNvSpPr/>
            <p:nvPr/>
          </p:nvSpPr>
          <p:spPr>
            <a:xfrm rot="2610600">
              <a:off x="5785920" y="3600360"/>
              <a:ext cx="1784520" cy="346320"/>
            </a:xfrm>
            <a:custGeom>
              <a:avLst/>
              <a:gdLst>
                <a:gd name="textAreaLeft" fmla="*/ 0 w 1784520"/>
                <a:gd name="textAreaRight" fmla="*/ 1784880 w 178452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2403" h="467">
                  <a:moveTo>
                    <a:pt x="0" y="444"/>
                  </a:moveTo>
                  <a:lnTo>
                    <a:pt x="4" y="467"/>
                  </a:lnTo>
                  <a:lnTo>
                    <a:pt x="2403" y="23"/>
                  </a:lnTo>
                  <a:lnTo>
                    <a:pt x="2400" y="0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99"/>
            </a:solidFill>
            <a:ln w="3816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1"/>
            <p:cNvSpPr/>
            <p:nvPr/>
          </p:nvSpPr>
          <p:spPr>
            <a:xfrm>
              <a:off x="7589880" y="426096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32"/>
          <p:cNvSpPr/>
          <p:nvPr/>
        </p:nvSpPr>
        <p:spPr>
          <a:xfrm>
            <a:off x="6616800" y="6381720"/>
            <a:ext cx="24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Times New Roman"/>
                <a:ea typeface="Arial"/>
              </a:rPr>
              <a:t>Sigma Mathematics Work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  <a:ea typeface="Arial"/>
              </a:rPr>
              <a:t>© Pearson Education New Zealan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380880" y="5372280"/>
            <a:ext cx="43484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6"/>
          <p:cNvGrpSpPr/>
          <p:nvPr/>
        </p:nvGrpSpPr>
        <p:grpSpPr>
          <a:xfrm>
            <a:off x="6940440" y="2830680"/>
            <a:ext cx="1706760" cy="2039760"/>
            <a:chOff x="6940440" y="2830680"/>
            <a:chExt cx="1706760" cy="2039760"/>
          </a:xfrm>
        </p:grpSpPr>
        <p:sp>
          <p:nvSpPr>
            <p:cNvPr id="783" name="Rectangle 7"/>
            <p:cNvSpPr/>
            <p:nvPr/>
          </p:nvSpPr>
          <p:spPr>
            <a:xfrm>
              <a:off x="7050240" y="2975040"/>
              <a:ext cx="28440" cy="18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8"/>
            <p:cNvSpPr/>
            <p:nvPr/>
          </p:nvSpPr>
          <p:spPr>
            <a:xfrm>
              <a:off x="6989760" y="2830680"/>
              <a:ext cx="149400" cy="1476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9"/>
            <p:cNvSpPr/>
            <p:nvPr/>
          </p:nvSpPr>
          <p:spPr>
            <a:xfrm>
              <a:off x="7050240" y="3678120"/>
              <a:ext cx="2844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10"/>
            <p:cNvGrpSpPr/>
            <p:nvPr/>
          </p:nvGrpSpPr>
          <p:grpSpPr>
            <a:xfrm>
              <a:off x="6940440" y="4584600"/>
              <a:ext cx="1706760" cy="150840"/>
              <a:chOff x="6940440" y="4584600"/>
              <a:chExt cx="1706760" cy="150840"/>
            </a:xfrm>
          </p:grpSpPr>
          <p:sp>
            <p:nvSpPr>
              <p:cNvPr id="787" name="Rectangle 11"/>
              <p:cNvSpPr/>
              <p:nvPr/>
            </p:nvSpPr>
            <p:spPr>
              <a:xfrm>
                <a:off x="6940440" y="4645080"/>
                <a:ext cx="1562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"/>
              <p:cNvSpPr/>
              <p:nvPr/>
            </p:nvSpPr>
            <p:spPr>
              <a:xfrm>
                <a:off x="8499600" y="4584600"/>
                <a:ext cx="147600" cy="15084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50840"/>
                  <a:gd name="textAreaBottom" fmla="*/ 150840 h 150840"/>
                </a:gdLst>
                <a:ahLst/>
                <a:rect l="textAreaLeft" t="textAreaTop" r="textAreaRight" b="textAreaBottom"/>
                <a:pathLst>
                  <a:path w="198" h="201">
                    <a:moveTo>
                      <a:pt x="0" y="201"/>
                    </a:moveTo>
                    <a:lnTo>
                      <a:pt x="198" y="100"/>
                    </a:lnTo>
                    <a:lnTo>
                      <a:pt x="0" y="0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Rectangle 13"/>
          <p:cNvSpPr/>
          <p:nvPr/>
        </p:nvSpPr>
        <p:spPr>
          <a:xfrm>
            <a:off x="7299360" y="4803840"/>
            <a:ext cx="1333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7"/>
          <p:cNvSpPr/>
          <p:nvPr/>
        </p:nvSpPr>
        <p:spPr>
          <a:xfrm>
            <a:off x="1220760" y="8380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1143000" y="1371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+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– 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9"/>
          <p:cNvSpPr/>
          <p:nvPr/>
        </p:nvSpPr>
        <p:spPr>
          <a:xfrm>
            <a:off x="4376520" y="762120"/>
            <a:ext cx="4172040" cy="88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earrange (2) into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+ b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=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2"/>
          <p:cNvSpPr/>
          <p:nvPr/>
        </p:nvSpPr>
        <p:spPr>
          <a:xfrm>
            <a:off x="228600" y="35812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two equations cancel out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5"/>
          <p:cNvSpPr/>
          <p:nvPr/>
        </p:nvSpPr>
        <p:spPr>
          <a:xfrm>
            <a:off x="375840" y="5410080"/>
            <a:ext cx="41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the sam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6"/>
          <p:cNvSpPr/>
          <p:nvPr/>
        </p:nvSpPr>
        <p:spPr>
          <a:xfrm>
            <a:off x="380160" y="60199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27"/>
          <p:cNvGrpSpPr/>
          <p:nvPr/>
        </p:nvGrpSpPr>
        <p:grpSpPr>
          <a:xfrm>
            <a:off x="7353720" y="2455920"/>
            <a:ext cx="1538640" cy="2485800"/>
            <a:chOff x="7353720" y="2455920"/>
            <a:chExt cx="1538640" cy="2485800"/>
          </a:xfrm>
        </p:grpSpPr>
        <p:sp>
          <p:nvSpPr>
            <p:cNvPr id="798" name="Line 28"/>
            <p:cNvSpPr/>
            <p:nvPr/>
          </p:nvSpPr>
          <p:spPr>
            <a:xfrm flipH="1">
              <a:off x="7451280" y="2924280"/>
              <a:ext cx="1079640" cy="201744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29"/>
            <p:cNvSpPr/>
            <p:nvPr/>
          </p:nvSpPr>
          <p:spPr>
            <a:xfrm>
              <a:off x="7353720" y="2455920"/>
              <a:ext cx="15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4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– 2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30"/>
          <p:cNvGrpSpPr/>
          <p:nvPr/>
        </p:nvGrpSpPr>
        <p:grpSpPr>
          <a:xfrm>
            <a:off x="6193440" y="3870000"/>
            <a:ext cx="2702880" cy="1879920"/>
            <a:chOff x="6193440" y="3870000"/>
            <a:chExt cx="2702880" cy="1879920"/>
          </a:xfrm>
        </p:grpSpPr>
        <p:sp>
          <p:nvSpPr>
            <p:cNvPr id="801" name="Rectangle 31"/>
            <p:cNvSpPr/>
            <p:nvPr/>
          </p:nvSpPr>
          <p:spPr>
            <a:xfrm>
              <a:off x="6193440" y="5262480"/>
              <a:ext cx="27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inite interse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2"/>
            <p:cNvSpPr/>
            <p:nvPr/>
          </p:nvSpPr>
          <p:spPr>
            <a:xfrm>
              <a:off x="6216480" y="5261040"/>
              <a:ext cx="26146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3"/>
            <p:cNvSpPr/>
            <p:nvPr/>
          </p:nvSpPr>
          <p:spPr>
            <a:xfrm flipV="1">
              <a:off x="8193240" y="387000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34"/>
          <p:cNvGrpSpPr/>
          <p:nvPr/>
        </p:nvGrpSpPr>
        <p:grpSpPr>
          <a:xfrm>
            <a:off x="7040880" y="2905200"/>
            <a:ext cx="1461600" cy="2109600"/>
            <a:chOff x="7040880" y="2905200"/>
            <a:chExt cx="1461600" cy="2109600"/>
          </a:xfrm>
        </p:grpSpPr>
        <p:sp>
          <p:nvSpPr>
            <p:cNvPr id="805" name="Rectangle 35"/>
            <p:cNvSpPr/>
            <p:nvPr/>
          </p:nvSpPr>
          <p:spPr>
            <a:xfrm>
              <a:off x="7040880" y="290520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2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36"/>
            <p:cNvSpPr/>
            <p:nvPr/>
          </p:nvSpPr>
          <p:spPr>
            <a:xfrm flipH="1">
              <a:off x="7423200" y="2997360"/>
              <a:ext cx="1079280" cy="2017440"/>
            </a:xfrm>
            <a:prstGeom prst="line">
              <a:avLst/>
            </a:prstGeom>
            <a:ln w="572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37"/>
          <p:cNvSpPr/>
          <p:nvPr/>
        </p:nvSpPr>
        <p:spPr>
          <a:xfrm>
            <a:off x="304920" y="4038480"/>
            <a:ext cx="59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Q. What does this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8"/>
          <p:cNvSpPr/>
          <p:nvPr/>
        </p:nvSpPr>
        <p:spPr>
          <a:xfrm>
            <a:off x="304920" y="40384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hey are the SAME, just re-arr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9"/>
          <p:cNvSpPr/>
          <p:nvPr/>
        </p:nvSpPr>
        <p:spPr>
          <a:xfrm>
            <a:off x="2001240" y="13636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1177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Graphing Simultaneous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The “solutions” to a pair of simultaneous equations are the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and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co-ordinates where the two lines they represent inters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But they don’t always intersect at a point.  There are 3 possibilities (think U.N.I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ique 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The usual – where there is a unique solution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.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is means that the 2 lines represented by the equations intersect at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ique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and its coordinates are given by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 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ere is no solution – lines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tersect because they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The 2 equations are said 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” with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finite number of solu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oth equations are actually for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1295280" y="1295280"/>
            <a:ext cx="6477120" cy="194004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Finish to end of </a:t>
            </a: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g. 73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TRA EXAMPLE </a:t>
            </a: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(not covered in 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818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819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820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821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841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0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Rectangle 67"/>
          <p:cNvSpPr/>
          <p:nvPr/>
        </p:nvSpPr>
        <p:spPr>
          <a:xfrm>
            <a:off x="372960" y="164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870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871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872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873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893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2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917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919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Rectangle 67"/>
          <p:cNvSpPr/>
          <p:nvPr/>
        </p:nvSpPr>
        <p:spPr>
          <a:xfrm>
            <a:off x="372960" y="164628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+ 5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= 6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927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928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929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930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950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9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1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974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976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8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979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981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–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= 2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989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990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991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992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012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1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036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038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041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043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5" name="Group 62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046" name="Line 63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64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048" name="Oval 65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66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6320" y="761760"/>
            <a:ext cx="906768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  30% of the students in a class own a car.  Half of the class have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38% of the class neither owns a car, nor has a job, are the 2 events “owns a car” and “has a job” statistically independent in this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is the probability that a student from this class who has a job also owns a c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5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1056" name="Group 6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1057" name="Group 7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1058" name="Group 8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1059" name="Line 9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10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11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12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13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14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15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16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17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18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19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20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21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22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23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24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25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26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27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" name="Group 28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079" name="Line 29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30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31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32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33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34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35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36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37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38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39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40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41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42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43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44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45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46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47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8" name="Line 48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49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Text Box 50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51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Group 52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103" name="Line 53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54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105" name="Oval 55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Text Box 56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7" name="Group 57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108" name="Line 58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59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110" name="Oval 60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Text Box 61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Group 62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113" name="Line 63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4" name="Group 64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115" name="Oval 65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Text Box 66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7" name="Rectangle 67"/>
          <p:cNvSpPr/>
          <p:nvPr/>
        </p:nvSpPr>
        <p:spPr>
          <a:xfrm>
            <a:off x="373680" y="1646280"/>
            <a:ext cx="41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iscuss by looking at the points </a:t>
            </a:r>
            <a:br>
              <a:rPr sz="2400"/>
            </a:b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inter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68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+ 5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= 6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–  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= 2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Arial"/>
              </a:rPr>
              <a:t>  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9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2"/>
          <p:cNvSpPr/>
          <p:nvPr/>
        </p:nvSpPr>
        <p:spPr>
          <a:xfrm>
            <a:off x="0" y="0"/>
            <a:ext cx="9144000" cy="1563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476280" y="3892680"/>
            <a:ext cx="4545000" cy="8096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Group 6"/>
          <p:cNvGrpSpPr/>
          <p:nvPr/>
        </p:nvGrpSpPr>
        <p:grpSpPr>
          <a:xfrm>
            <a:off x="5457960" y="1608120"/>
            <a:ext cx="3293640" cy="3225600"/>
            <a:chOff x="5457960" y="1608120"/>
            <a:chExt cx="3293640" cy="3225600"/>
          </a:xfrm>
        </p:grpSpPr>
        <p:grpSp>
          <p:nvGrpSpPr>
            <p:cNvPr id="1124" name="Group 7"/>
            <p:cNvGrpSpPr/>
            <p:nvPr/>
          </p:nvGrpSpPr>
          <p:grpSpPr>
            <a:xfrm>
              <a:off x="5457960" y="1675800"/>
              <a:ext cx="3265200" cy="3157920"/>
              <a:chOff x="5457960" y="1675800"/>
              <a:chExt cx="3265200" cy="3157920"/>
            </a:xfrm>
          </p:grpSpPr>
          <p:grpSp>
            <p:nvGrpSpPr>
              <p:cNvPr id="1125" name="Group 8"/>
              <p:cNvGrpSpPr/>
              <p:nvPr/>
            </p:nvGrpSpPr>
            <p:grpSpPr>
              <a:xfrm>
                <a:off x="5574960" y="1946520"/>
                <a:ext cx="2809080" cy="2778480"/>
                <a:chOff x="5574960" y="1946520"/>
                <a:chExt cx="2809080" cy="2778480"/>
              </a:xfrm>
            </p:grpSpPr>
            <p:grpSp>
              <p:nvGrpSpPr>
                <p:cNvPr id="1126" name="Group 9"/>
                <p:cNvGrpSpPr/>
                <p:nvPr/>
              </p:nvGrpSpPr>
              <p:grpSpPr>
                <a:xfrm>
                  <a:off x="5581800" y="1951200"/>
                  <a:ext cx="2799720" cy="2773080"/>
                  <a:chOff x="5581800" y="1951200"/>
                  <a:chExt cx="2799720" cy="2773080"/>
                </a:xfrm>
              </p:grpSpPr>
              <p:sp>
                <p:nvSpPr>
                  <p:cNvPr id="1127" name="Line 10"/>
                  <p:cNvSpPr/>
                  <p:nvPr/>
                </p:nvSpPr>
                <p:spPr>
                  <a:xfrm>
                    <a:off x="5581800" y="1951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11"/>
                  <p:cNvSpPr/>
                  <p:nvPr/>
                </p:nvSpPr>
                <p:spPr>
                  <a:xfrm>
                    <a:off x="5581800" y="225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12"/>
                  <p:cNvSpPr/>
                  <p:nvPr/>
                </p:nvSpPr>
                <p:spPr>
                  <a:xfrm>
                    <a:off x="5581800" y="27208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Line 13"/>
                  <p:cNvSpPr/>
                  <p:nvPr/>
                </p:nvSpPr>
                <p:spPr>
                  <a:xfrm>
                    <a:off x="5581800" y="33375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14"/>
                  <p:cNvSpPr/>
                  <p:nvPr/>
                </p:nvSpPr>
                <p:spPr>
                  <a:xfrm>
                    <a:off x="5581800" y="39528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15"/>
                  <p:cNvSpPr/>
                  <p:nvPr/>
                </p:nvSpPr>
                <p:spPr>
                  <a:xfrm>
                    <a:off x="5581800" y="21042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Line 16"/>
                  <p:cNvSpPr/>
                  <p:nvPr/>
                </p:nvSpPr>
                <p:spPr>
                  <a:xfrm>
                    <a:off x="5581800" y="25657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17"/>
                  <p:cNvSpPr/>
                  <p:nvPr/>
                </p:nvSpPr>
                <p:spPr>
                  <a:xfrm>
                    <a:off x="5581800" y="31827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Line 18"/>
                  <p:cNvSpPr/>
                  <p:nvPr/>
                </p:nvSpPr>
                <p:spPr>
                  <a:xfrm>
                    <a:off x="5581800" y="37994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19"/>
                  <p:cNvSpPr/>
                  <p:nvPr/>
                </p:nvSpPr>
                <p:spPr>
                  <a:xfrm>
                    <a:off x="5581800" y="44161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Line 20"/>
                  <p:cNvSpPr/>
                  <p:nvPr/>
                </p:nvSpPr>
                <p:spPr>
                  <a:xfrm>
                    <a:off x="5581800" y="24123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21"/>
                  <p:cNvSpPr/>
                  <p:nvPr/>
                </p:nvSpPr>
                <p:spPr>
                  <a:xfrm>
                    <a:off x="5581800" y="30290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Line 22"/>
                  <p:cNvSpPr/>
                  <p:nvPr/>
                </p:nvSpPr>
                <p:spPr>
                  <a:xfrm>
                    <a:off x="5581800" y="364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23"/>
                  <p:cNvSpPr/>
                  <p:nvPr/>
                </p:nvSpPr>
                <p:spPr>
                  <a:xfrm>
                    <a:off x="5581800" y="426096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24"/>
                  <p:cNvSpPr/>
                  <p:nvPr/>
                </p:nvSpPr>
                <p:spPr>
                  <a:xfrm>
                    <a:off x="5581800" y="47242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25"/>
                  <p:cNvSpPr/>
                  <p:nvPr/>
                </p:nvSpPr>
                <p:spPr>
                  <a:xfrm>
                    <a:off x="5581800" y="287424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26"/>
                  <p:cNvSpPr/>
                  <p:nvPr/>
                </p:nvSpPr>
                <p:spPr>
                  <a:xfrm>
                    <a:off x="5581800" y="349092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27"/>
                  <p:cNvSpPr/>
                  <p:nvPr/>
                </p:nvSpPr>
                <p:spPr>
                  <a:xfrm>
                    <a:off x="5581800" y="410760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28"/>
                  <p:cNvSpPr/>
                  <p:nvPr/>
                </p:nvSpPr>
                <p:spPr>
                  <a:xfrm>
                    <a:off x="5581800" y="4569480"/>
                    <a:ext cx="2799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Group 29"/>
                <p:cNvGrpSpPr/>
                <p:nvPr/>
              </p:nvGrpSpPr>
              <p:grpSpPr>
                <a:xfrm>
                  <a:off x="5574960" y="1946520"/>
                  <a:ext cx="2809080" cy="2778480"/>
                  <a:chOff x="5574960" y="1946520"/>
                  <a:chExt cx="2809080" cy="2778480"/>
                </a:xfrm>
              </p:grpSpPr>
              <p:sp>
                <p:nvSpPr>
                  <p:cNvPr id="1147" name="Line 30"/>
                  <p:cNvSpPr/>
                  <p:nvPr/>
                </p:nvSpPr>
                <p:spPr>
                  <a:xfrm>
                    <a:off x="838404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31"/>
                  <p:cNvSpPr/>
                  <p:nvPr/>
                </p:nvSpPr>
                <p:spPr>
                  <a:xfrm>
                    <a:off x="80737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32"/>
                  <p:cNvSpPr/>
                  <p:nvPr/>
                </p:nvSpPr>
                <p:spPr>
                  <a:xfrm>
                    <a:off x="7604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33"/>
                  <p:cNvSpPr/>
                  <p:nvPr/>
                </p:nvSpPr>
                <p:spPr>
                  <a:xfrm>
                    <a:off x="6979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34"/>
                  <p:cNvSpPr/>
                  <p:nvPr/>
                </p:nvSpPr>
                <p:spPr>
                  <a:xfrm>
                    <a:off x="63565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35"/>
                  <p:cNvSpPr/>
                  <p:nvPr/>
                </p:nvSpPr>
                <p:spPr>
                  <a:xfrm>
                    <a:off x="82288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36"/>
                  <p:cNvSpPr/>
                  <p:nvPr/>
                </p:nvSpPr>
                <p:spPr>
                  <a:xfrm>
                    <a:off x="77616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37"/>
                  <p:cNvSpPr/>
                  <p:nvPr/>
                </p:nvSpPr>
                <p:spPr>
                  <a:xfrm>
                    <a:off x="71362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38"/>
                  <p:cNvSpPr/>
                  <p:nvPr/>
                </p:nvSpPr>
                <p:spPr>
                  <a:xfrm>
                    <a:off x="65116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39"/>
                  <p:cNvSpPr/>
                  <p:nvPr/>
                </p:nvSpPr>
                <p:spPr>
                  <a:xfrm>
                    <a:off x="588708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40"/>
                  <p:cNvSpPr/>
                  <p:nvPr/>
                </p:nvSpPr>
                <p:spPr>
                  <a:xfrm>
                    <a:off x="79167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41"/>
                  <p:cNvSpPr/>
                  <p:nvPr/>
                </p:nvSpPr>
                <p:spPr>
                  <a:xfrm>
                    <a:off x="7292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42"/>
                  <p:cNvSpPr/>
                  <p:nvPr/>
                </p:nvSpPr>
                <p:spPr>
                  <a:xfrm>
                    <a:off x="66690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43"/>
                  <p:cNvSpPr/>
                  <p:nvPr/>
                </p:nvSpPr>
                <p:spPr>
                  <a:xfrm>
                    <a:off x="604440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44"/>
                  <p:cNvSpPr/>
                  <p:nvPr/>
                </p:nvSpPr>
                <p:spPr>
                  <a:xfrm>
                    <a:off x="55749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45"/>
                  <p:cNvSpPr/>
                  <p:nvPr/>
                </p:nvSpPr>
                <p:spPr>
                  <a:xfrm>
                    <a:off x="744912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46"/>
                  <p:cNvSpPr/>
                  <p:nvPr/>
                </p:nvSpPr>
                <p:spPr>
                  <a:xfrm>
                    <a:off x="68241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47"/>
                  <p:cNvSpPr/>
                  <p:nvPr/>
                </p:nvSpPr>
                <p:spPr>
                  <a:xfrm>
                    <a:off x="6199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48"/>
                  <p:cNvSpPr/>
                  <p:nvPr/>
                </p:nvSpPr>
                <p:spPr>
                  <a:xfrm>
                    <a:off x="5731560" y="1946520"/>
                    <a:ext cx="0" cy="2778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6" name="Line 49"/>
              <p:cNvSpPr/>
              <p:nvPr/>
            </p:nvSpPr>
            <p:spPr>
              <a:xfrm>
                <a:off x="5457960" y="3335760"/>
                <a:ext cx="32652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50"/>
              <p:cNvSpPr/>
              <p:nvPr/>
            </p:nvSpPr>
            <p:spPr>
              <a:xfrm flipV="1">
                <a:off x="6984360" y="1675800"/>
                <a:ext cx="0" cy="31579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Text Box 51"/>
            <p:cNvSpPr/>
            <p:nvPr/>
          </p:nvSpPr>
          <p:spPr>
            <a:xfrm>
              <a:off x="8443800" y="329688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52"/>
            <p:cNvSpPr/>
            <p:nvPr/>
          </p:nvSpPr>
          <p:spPr>
            <a:xfrm>
              <a:off x="6660720" y="1608120"/>
              <a:ext cx="3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53"/>
          <p:cNvGrpSpPr/>
          <p:nvPr/>
        </p:nvGrpSpPr>
        <p:grpSpPr>
          <a:xfrm>
            <a:off x="5702400" y="2546280"/>
            <a:ext cx="2614680" cy="858960"/>
            <a:chOff x="5702400" y="2546280"/>
            <a:chExt cx="2614680" cy="858960"/>
          </a:xfrm>
        </p:grpSpPr>
        <p:sp>
          <p:nvSpPr>
            <p:cNvPr id="1171" name="Line 54"/>
            <p:cNvSpPr/>
            <p:nvPr/>
          </p:nvSpPr>
          <p:spPr>
            <a:xfrm>
              <a:off x="5816520" y="2941560"/>
              <a:ext cx="2500560" cy="4636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Group 55"/>
            <p:cNvGrpSpPr/>
            <p:nvPr/>
          </p:nvGrpSpPr>
          <p:grpSpPr>
            <a:xfrm>
              <a:off x="5702400" y="2546280"/>
              <a:ext cx="312480" cy="398880"/>
              <a:chOff x="5702400" y="2546280"/>
              <a:chExt cx="312480" cy="398880"/>
            </a:xfrm>
          </p:grpSpPr>
          <p:sp>
            <p:nvSpPr>
              <p:cNvPr id="1173" name="Oval 56"/>
              <p:cNvSpPr/>
              <p:nvPr/>
            </p:nvSpPr>
            <p:spPr>
              <a:xfrm>
                <a:off x="5715000" y="2595600"/>
                <a:ext cx="299880" cy="299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Text Box 57"/>
              <p:cNvSpPr/>
              <p:nvPr/>
            </p:nvSpPr>
            <p:spPr>
              <a:xfrm>
                <a:off x="5702400" y="2546280"/>
                <a:ext cx="24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8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5" name="Group 58"/>
          <p:cNvGrpSpPr/>
          <p:nvPr/>
        </p:nvGrpSpPr>
        <p:grpSpPr>
          <a:xfrm>
            <a:off x="6273720" y="2009880"/>
            <a:ext cx="1265400" cy="2675160"/>
            <a:chOff x="6273720" y="2009880"/>
            <a:chExt cx="1265400" cy="2675160"/>
          </a:xfrm>
        </p:grpSpPr>
        <p:sp>
          <p:nvSpPr>
            <p:cNvPr id="1176" name="Line 59"/>
            <p:cNvSpPr/>
            <p:nvPr/>
          </p:nvSpPr>
          <p:spPr>
            <a:xfrm flipV="1">
              <a:off x="6642000" y="2009880"/>
              <a:ext cx="897120" cy="262728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60"/>
            <p:cNvGrpSpPr/>
            <p:nvPr/>
          </p:nvGrpSpPr>
          <p:grpSpPr>
            <a:xfrm>
              <a:off x="6273720" y="4286160"/>
              <a:ext cx="300240" cy="398880"/>
              <a:chOff x="6273720" y="4286160"/>
              <a:chExt cx="300240" cy="398880"/>
            </a:xfrm>
          </p:grpSpPr>
          <p:sp>
            <p:nvSpPr>
              <p:cNvPr id="1178" name="Oval 61"/>
              <p:cNvSpPr/>
              <p:nvPr/>
            </p:nvSpPr>
            <p:spPr>
              <a:xfrm>
                <a:off x="6273720" y="4335480"/>
                <a:ext cx="30024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Text Box 62"/>
              <p:cNvSpPr/>
              <p:nvPr/>
            </p:nvSpPr>
            <p:spPr>
              <a:xfrm>
                <a:off x="6273720" y="4286160"/>
                <a:ext cx="24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9966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Group 63"/>
          <p:cNvGrpSpPr/>
          <p:nvPr/>
        </p:nvGrpSpPr>
        <p:grpSpPr>
          <a:xfrm>
            <a:off x="7380000" y="1980720"/>
            <a:ext cx="664920" cy="2651400"/>
            <a:chOff x="7380000" y="1980720"/>
            <a:chExt cx="664920" cy="2651400"/>
          </a:xfrm>
        </p:grpSpPr>
        <p:sp>
          <p:nvSpPr>
            <p:cNvPr id="1181" name="Line 64"/>
            <p:cNvSpPr/>
            <p:nvPr/>
          </p:nvSpPr>
          <p:spPr>
            <a:xfrm flipH="1" flipV="1">
              <a:off x="7380000" y="1980720"/>
              <a:ext cx="664920" cy="26514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65"/>
            <p:cNvGrpSpPr/>
            <p:nvPr/>
          </p:nvGrpSpPr>
          <p:grpSpPr>
            <a:xfrm>
              <a:off x="7562880" y="4122720"/>
              <a:ext cx="301680" cy="398880"/>
              <a:chOff x="7562880" y="4122720"/>
              <a:chExt cx="301680" cy="398880"/>
            </a:xfrm>
          </p:grpSpPr>
          <p:sp>
            <p:nvSpPr>
              <p:cNvPr id="1183" name="Oval 66"/>
              <p:cNvSpPr/>
              <p:nvPr/>
            </p:nvSpPr>
            <p:spPr>
              <a:xfrm>
                <a:off x="7562880" y="4172040"/>
                <a:ext cx="301680" cy="301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67"/>
              <p:cNvSpPr/>
              <p:nvPr/>
            </p:nvSpPr>
            <p:spPr>
              <a:xfrm>
                <a:off x="7562880" y="4122720"/>
                <a:ext cx="2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5" name="Rectangle 68"/>
          <p:cNvSpPr/>
          <p:nvPr/>
        </p:nvSpPr>
        <p:spPr>
          <a:xfrm>
            <a:off x="404640" y="1692360"/>
            <a:ext cx="48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 satisfy the 1st pair of equations, but not equ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69"/>
          <p:cNvSpPr/>
          <p:nvPr/>
        </p:nvSpPr>
        <p:spPr>
          <a:xfrm>
            <a:off x="404640" y="2789280"/>
            <a:ext cx="43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 satisfy the last pair but not equ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70"/>
          <p:cNvSpPr/>
          <p:nvPr/>
        </p:nvSpPr>
        <p:spPr>
          <a:xfrm>
            <a:off x="404640" y="3884760"/>
            <a:ext cx="48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no set of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hich satisf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l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71"/>
          <p:cNvSpPr/>
          <p:nvPr/>
        </p:nvSpPr>
        <p:spPr>
          <a:xfrm>
            <a:off x="404640" y="4984920"/>
            <a:ext cx="80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3 lines represented by these three equations do not intersect at the sam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72"/>
          <p:cNvSpPr/>
          <p:nvPr/>
        </p:nvSpPr>
        <p:spPr>
          <a:xfrm>
            <a:off x="441360" y="-52920"/>
            <a:ext cx="65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scuss the following set of simultaneou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ing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3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hieving in Statistics pg. 75 &amp; 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e up examples on boar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8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py &amp; complete:  The 3 types of probability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coin is flipped 8 times.  The variable: number of tails, would be modelled by which of the above distributions?  Give the parameter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. of get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ss than 3 tails in 8 coin-tos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t least 5 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4"/>
          <p:cNvSpPr/>
          <p:nvPr/>
        </p:nvSpPr>
        <p:spPr>
          <a:xfrm>
            <a:off x="380880" y="2133720"/>
            <a:ext cx="8763120" cy="157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FOR DISCRET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 The __________ 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. The ________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Parameter: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80880" y="990720"/>
            <a:ext cx="87631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FOR CONTINUOU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__________ Distribution.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Homework q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g. 73 Q2: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Describe the geometric position of lines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Object 5"/>
              <p:cNvSpPr txBox="1"/>
              <p:nvPr/>
            </p:nvSpPr>
            <p:spPr>
              <a:xfrm>
                <a:off x="1295280" y="1447920"/>
                <a:ext cx="9716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ct 7"/>
              <p:cNvSpPr txBox="1"/>
              <p:nvPr/>
            </p:nvSpPr>
            <p:spPr>
              <a:xfrm>
                <a:off x="685800" y="2209680"/>
                <a:ext cx="11271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Solve by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g. 75 –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+ 2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+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+  3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–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–  2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2666880" y="380880"/>
            <a:ext cx="6477120" cy="2244600"/>
          </a:xfrm>
          <a:prstGeom prst="rect">
            <a:avLst/>
          </a:prstGeom>
          <a:solidFill>
            <a:srgbClr val="ffffcc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pg. 75 &amp; 76 of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Do NuLake pg. 182 Q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Use your calculator to check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actice solving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3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ish NuLake p182  Q9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Sigma (old version -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edi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g. 349 – Ex. 2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-82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opy &amp; complete:  The 3 types of probability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 average there are 6 earthquakes felt each year in Canterbury.  Which probability distribution would best model the variable: number of earthquakes felt in a year (excluding after-shocks).  Give its parameter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ame 2 assumptions that we’re making to use this distribution to model earthquak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. of get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ss than 2 earthquakes in a six-month period in Canterbu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ore than 1 in a given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4"/>
          <p:cNvSpPr/>
          <p:nvPr/>
        </p:nvSpPr>
        <p:spPr>
          <a:xfrm>
            <a:off x="380880" y="2133720"/>
            <a:ext cx="8763120" cy="157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FOR DISCRETE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 The __________ 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. The ________Distribution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Parameter: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5"/>
          <p:cNvSpPr/>
          <p:nvPr/>
        </p:nvSpPr>
        <p:spPr>
          <a:xfrm>
            <a:off x="380880" y="990720"/>
            <a:ext cx="8763120" cy="101592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FOR CONTINUOUS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__________ Distribution.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arameters: __ &amp; 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LESSON 4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Consistent, inconsistent and non-independent systems of equation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Describing the </a:t>
            </a:r>
            <a:r>
              <a:rPr b="1" lang="en-NZ" sz="2400" spc="-1" strike="noStrike">
                <a:solidFill>
                  <a:srgbClr val="564b3c"/>
                </a:solidFill>
                <a:latin typeface="Century Gothic"/>
              </a:rPr>
              <a:t>geometric representation</a:t>
            </a: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 of 3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×3 sim equations – planes in 3D-space. Handout to fill 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Do Sigma (new): Ex. 10.03 (p195) or Ex. 21.3 on old versio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 6: 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SOLVE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130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76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2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816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vision 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76320" y="838080"/>
            <a:ext cx="90676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 One quarter of the class is left-handed and the rest are right-hande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e third of the class takes Calculus and 40% of the class takes Geography.  No-one in the class takes b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ich 2 characteristics above ar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bu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not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o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efine each of the terms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5"/>
          <p:cNvSpPr/>
          <p:nvPr/>
        </p:nvSpPr>
        <p:spPr>
          <a:xfrm>
            <a:off x="533520" y="2570040"/>
            <a:ext cx="8065800" cy="1984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Special case 1 –  equations in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Attempt to solve this system of equations.  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+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=   1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–  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 + 4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 =   6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– 1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+ 22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NewRomanPS-ItalicMT"/>
                <a:ea typeface="Arial"/>
              </a:rPr>
              <a:t>  =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7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8"/>
          <p:cNvSpPr/>
          <p:nvPr/>
        </p:nvSpPr>
        <p:spPr>
          <a:xfrm>
            <a:off x="533520" y="579600"/>
            <a:ext cx="8065800" cy="2011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2005 NCEA “Solve Equations” paper –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Solve the system of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6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7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11    =   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5"/>
          <p:cNvSpPr/>
          <p:nvPr/>
        </p:nvSpPr>
        <p:spPr>
          <a:xfrm>
            <a:off x="498600" y="4707000"/>
            <a:ext cx="8065800" cy="19828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31f20"/>
                </a:solidFill>
                <a:latin typeface="Arial-BoldMT"/>
              </a:rPr>
              <a:t>Special case 2 – consistent but with an infinite number of solutions </a:t>
            </a: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Attempt to solve this system of equations.  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2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+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   –  4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  =  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3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 +  4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–   7</a:t>
            </a:r>
            <a:r>
              <a:rPr b="1" i="1" lang="en-GB" sz="2400" spc="-1" strike="noStrike">
                <a:solidFill>
                  <a:srgbClr val="231f20"/>
                </a:solidFill>
                <a:latin typeface="TimesNewRomanPS-ItalicMT"/>
              </a:rPr>
              <a:t>z</a:t>
            </a:r>
            <a:r>
              <a:rPr b="0" i="1" lang="en-GB" sz="2400" spc="-1" strike="noStrike">
                <a:solidFill>
                  <a:srgbClr val="231f20"/>
                </a:solidFill>
                <a:latin typeface="TimesNewRomanPS-ItalicMT"/>
              </a:rPr>
              <a:t>    </a:t>
            </a:r>
            <a:r>
              <a:rPr b="0" lang="en-GB" sz="2400" spc="-1" strike="noStrike">
                <a:solidFill>
                  <a:srgbClr val="231f20"/>
                </a:solidFill>
                <a:latin typeface="TimesNewRomanPSMT"/>
              </a:rPr>
              <a:t>= 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3"/>
          <p:cNvSpPr/>
          <p:nvPr/>
        </p:nvSpPr>
        <p:spPr>
          <a:xfrm>
            <a:off x="412200" y="2443320"/>
            <a:ext cx="56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 we now have 3 dim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7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28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29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32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33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71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2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5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6"/>
          <p:cNvSpPr/>
          <p:nvPr/>
        </p:nvSpPr>
        <p:spPr>
          <a:xfrm>
            <a:off x="477360" y="244800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7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8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9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11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12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Group 14"/>
          <p:cNvGrpSpPr/>
          <p:nvPr/>
        </p:nvGrpSpPr>
        <p:grpSpPr>
          <a:xfrm>
            <a:off x="1616040" y="3705840"/>
            <a:ext cx="1338840" cy="2573280"/>
            <a:chOff x="1616040" y="3705840"/>
            <a:chExt cx="1338840" cy="2573280"/>
          </a:xfrm>
        </p:grpSpPr>
        <p:sp>
          <p:nvSpPr>
            <p:cNvPr id="1244" name="Freeform 15"/>
            <p:cNvSpPr/>
            <p:nvPr/>
          </p:nvSpPr>
          <p:spPr>
            <a:xfrm rot="21432600">
              <a:off x="1688400" y="3764160"/>
              <a:ext cx="1193760" cy="24555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2455560"/>
                <a:gd name="textAreaBottom" fmla="*/ 2455560 h 245556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6"/>
            <p:cNvSpPr/>
            <p:nvPr/>
          </p:nvSpPr>
          <p:spPr>
            <a:xfrm rot="21432600">
              <a:off x="1676520" y="3733920"/>
              <a:ext cx="1217880" cy="2516760"/>
            </a:xfrm>
            <a:custGeom>
              <a:avLst/>
              <a:gdLst>
                <a:gd name="textAreaLeft" fmla="*/ 0 w 1217880"/>
                <a:gd name="textAreaRight" fmla="*/ 1218240 w 1217880"/>
                <a:gd name="textAreaTop" fmla="*/ 0 h 2516760"/>
                <a:gd name="textAreaBottom" fmla="*/ 2517120 h 25167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6" name="Rectangle 18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21"/>
          <p:cNvSpPr/>
          <p:nvPr/>
        </p:nvSpPr>
        <p:spPr>
          <a:xfrm>
            <a:off x="990720" y="4114800"/>
            <a:ext cx="1523880" cy="1371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6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7"/>
          <p:cNvSpPr/>
          <p:nvPr/>
        </p:nvSpPr>
        <p:spPr>
          <a:xfrm>
            <a:off x="473040" y="2448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y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8"/>
          <p:cNvSpPr/>
          <p:nvPr/>
        </p:nvSpPr>
        <p:spPr>
          <a:xfrm>
            <a:off x="1295280" y="5791320"/>
            <a:ext cx="2397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9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0"/>
          <p:cNvSpPr/>
          <p:nvPr/>
        </p:nvSpPr>
        <p:spPr>
          <a:xfrm flipV="1">
            <a:off x="1066680" y="4495680"/>
            <a:ext cx="16765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1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12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13"/>
          <p:cNvSpPr/>
          <p:nvPr/>
        </p:nvSpPr>
        <p:spPr>
          <a:xfrm>
            <a:off x="266688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14"/>
          <p:cNvGrpSpPr/>
          <p:nvPr/>
        </p:nvGrpSpPr>
        <p:grpSpPr>
          <a:xfrm>
            <a:off x="1534320" y="3547440"/>
            <a:ext cx="1578240" cy="2809800"/>
            <a:chOff x="1534320" y="3547440"/>
            <a:chExt cx="1578240" cy="2809800"/>
          </a:xfrm>
        </p:grpSpPr>
        <p:sp>
          <p:nvSpPr>
            <p:cNvPr id="1260" name="Freeform 15"/>
            <p:cNvSpPr/>
            <p:nvPr/>
          </p:nvSpPr>
          <p:spPr>
            <a:xfrm rot="21432600">
              <a:off x="1613880" y="3614040"/>
              <a:ext cx="1418040" cy="2675880"/>
            </a:xfrm>
            <a:custGeom>
              <a:avLst/>
              <a:gdLst>
                <a:gd name="textAreaLeft" fmla="*/ 0 w 1418040"/>
                <a:gd name="textAreaRight" fmla="*/ 1418400 w 1418040"/>
                <a:gd name="textAreaTop" fmla="*/ 0 h 2675880"/>
                <a:gd name="textAreaBottom" fmla="*/ 2676240 h 267588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6"/>
            <p:cNvSpPr/>
            <p:nvPr/>
          </p:nvSpPr>
          <p:spPr>
            <a:xfrm rot="21432600">
              <a:off x="1600200" y="3580920"/>
              <a:ext cx="1446480" cy="274248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2742480"/>
                <a:gd name="textAreaBottom" fmla="*/ 2742480 h 274248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Rectangle 19"/>
          <p:cNvSpPr/>
          <p:nvPr/>
        </p:nvSpPr>
        <p:spPr>
          <a:xfrm>
            <a:off x="2514600" y="4114800"/>
            <a:ext cx="704880" cy="1371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2"/>
          <p:cNvSpPr/>
          <p:nvPr/>
        </p:nvSpPr>
        <p:spPr>
          <a:xfrm>
            <a:off x="3200760" y="47242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6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8"/>
          <p:cNvSpPr/>
          <p:nvPr/>
        </p:nvSpPr>
        <p:spPr>
          <a:xfrm>
            <a:off x="1608120" y="5229360"/>
            <a:ext cx="627120" cy="566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9"/>
          <p:cNvSpPr/>
          <p:nvPr/>
        </p:nvSpPr>
        <p:spPr>
          <a:xfrm>
            <a:off x="2235240" y="4976640"/>
            <a:ext cx="704880" cy="819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0"/>
          <p:cNvSpPr/>
          <p:nvPr/>
        </p:nvSpPr>
        <p:spPr>
          <a:xfrm>
            <a:off x="1949400" y="492588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11"/>
          <p:cNvSpPr/>
          <p:nvPr/>
        </p:nvSpPr>
        <p:spPr>
          <a:xfrm>
            <a:off x="1949400" y="5000760"/>
            <a:ext cx="504720" cy="1031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12"/>
          <p:cNvSpPr/>
          <p:nvPr/>
        </p:nvSpPr>
        <p:spPr>
          <a:xfrm rot="538200">
            <a:off x="1755720" y="4249800"/>
            <a:ext cx="1689120" cy="74304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3"/>
          <p:cNvGrpSpPr/>
          <p:nvPr/>
        </p:nvGrpSpPr>
        <p:grpSpPr>
          <a:xfrm>
            <a:off x="2451240" y="3911760"/>
            <a:ext cx="513720" cy="1055160"/>
            <a:chOff x="2451240" y="3911760"/>
            <a:chExt cx="513720" cy="1055160"/>
          </a:xfrm>
        </p:grpSpPr>
        <p:sp>
          <p:nvSpPr>
            <p:cNvPr id="1275" name="Freeform 14"/>
            <p:cNvSpPr/>
            <p:nvPr/>
          </p:nvSpPr>
          <p:spPr>
            <a:xfrm>
              <a:off x="2456280" y="3924360"/>
              <a:ext cx="503640" cy="102960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5"/>
            <p:cNvSpPr/>
            <p:nvPr/>
          </p:nvSpPr>
          <p:spPr>
            <a:xfrm>
              <a:off x="2451240" y="3911760"/>
              <a:ext cx="513720" cy="10551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Freeform 16"/>
          <p:cNvSpPr/>
          <p:nvPr/>
        </p:nvSpPr>
        <p:spPr>
          <a:xfrm rot="538200">
            <a:off x="1398240" y="4627440"/>
            <a:ext cx="1689120" cy="741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17"/>
          <p:cNvSpPr/>
          <p:nvPr/>
        </p:nvSpPr>
        <p:spPr>
          <a:xfrm rot="538200">
            <a:off x="1389240" y="4620960"/>
            <a:ext cx="1706400" cy="752400"/>
          </a:xfrm>
          <a:custGeom>
            <a:avLst/>
            <a:gdLst>
              <a:gd name="textAreaLeft" fmla="*/ 0 w 1706400"/>
              <a:gd name="textAreaRight" fmla="*/ 1706760 w 1706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434" h="1169">
                <a:moveTo>
                  <a:pt x="9" y="1155"/>
                </a:moveTo>
                <a:lnTo>
                  <a:pt x="0" y="1169"/>
                </a:lnTo>
                <a:lnTo>
                  <a:pt x="14" y="1166"/>
                </a:lnTo>
                <a:lnTo>
                  <a:pt x="1913" y="844"/>
                </a:lnTo>
                <a:lnTo>
                  <a:pt x="1916" y="844"/>
                </a:lnTo>
                <a:lnTo>
                  <a:pt x="1917" y="842"/>
                </a:lnTo>
                <a:lnTo>
                  <a:pt x="2426" y="14"/>
                </a:lnTo>
                <a:lnTo>
                  <a:pt x="2434" y="0"/>
                </a:lnTo>
                <a:lnTo>
                  <a:pt x="2420" y="3"/>
                </a:lnTo>
                <a:lnTo>
                  <a:pt x="522" y="325"/>
                </a:lnTo>
                <a:lnTo>
                  <a:pt x="519" y="325"/>
                </a:lnTo>
                <a:lnTo>
                  <a:pt x="519" y="327"/>
                </a:lnTo>
                <a:lnTo>
                  <a:pt x="9" y="1155"/>
                </a:lnTo>
                <a:close/>
                <a:moveTo>
                  <a:pt x="529" y="336"/>
                </a:moveTo>
                <a:lnTo>
                  <a:pt x="523" y="332"/>
                </a:lnTo>
                <a:lnTo>
                  <a:pt x="525" y="338"/>
                </a:lnTo>
                <a:lnTo>
                  <a:pt x="2422" y="16"/>
                </a:lnTo>
                <a:lnTo>
                  <a:pt x="2421" y="9"/>
                </a:lnTo>
                <a:lnTo>
                  <a:pt x="2416" y="5"/>
                </a:lnTo>
                <a:lnTo>
                  <a:pt x="1907" y="833"/>
                </a:lnTo>
                <a:lnTo>
                  <a:pt x="1911" y="837"/>
                </a:lnTo>
                <a:lnTo>
                  <a:pt x="1910" y="831"/>
                </a:lnTo>
                <a:lnTo>
                  <a:pt x="12" y="1153"/>
                </a:lnTo>
                <a:lnTo>
                  <a:pt x="13" y="1160"/>
                </a:lnTo>
                <a:lnTo>
                  <a:pt x="19" y="1164"/>
                </a:lnTo>
                <a:lnTo>
                  <a:pt x="529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8"/>
          <p:cNvSpPr/>
          <p:nvPr/>
        </p:nvSpPr>
        <p:spPr>
          <a:xfrm>
            <a:off x="2235240" y="4452840"/>
            <a:ext cx="70488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9"/>
          <p:cNvSpPr/>
          <p:nvPr/>
        </p:nvSpPr>
        <p:spPr>
          <a:xfrm>
            <a:off x="1608120" y="4452840"/>
            <a:ext cx="62712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>
            <a:off x="2070000" y="573408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21"/>
          <p:cNvSpPr/>
          <p:nvPr/>
        </p:nvSpPr>
        <p:spPr>
          <a:xfrm flipV="1">
            <a:off x="1652760" y="3820680"/>
            <a:ext cx="0" cy="13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22"/>
          <p:cNvSpPr/>
          <p:nvPr/>
        </p:nvSpPr>
        <p:spPr>
          <a:xfrm flipV="1">
            <a:off x="1531800" y="5506920"/>
            <a:ext cx="3207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23"/>
          <p:cNvSpPr/>
          <p:nvPr/>
        </p:nvSpPr>
        <p:spPr>
          <a:xfrm>
            <a:off x="1481040" y="5734080"/>
            <a:ext cx="47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24"/>
          <p:cNvSpPr/>
          <p:nvPr/>
        </p:nvSpPr>
        <p:spPr>
          <a:xfrm flipV="1">
            <a:off x="1652760" y="5240160"/>
            <a:ext cx="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 Box 25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 Box 26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27"/>
          <p:cNvSpPr/>
          <p:nvPr/>
        </p:nvSpPr>
        <p:spPr>
          <a:xfrm>
            <a:off x="1968480" y="444492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8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29"/>
          <p:cNvSpPr/>
          <p:nvPr/>
        </p:nvSpPr>
        <p:spPr>
          <a:xfrm>
            <a:off x="2907000" y="52941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30"/>
          <p:cNvSpPr/>
          <p:nvPr/>
        </p:nvSpPr>
        <p:spPr>
          <a:xfrm>
            <a:off x="3356280" y="4565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1"/>
          <p:cNvSpPr/>
          <p:nvPr/>
        </p:nvSpPr>
        <p:spPr>
          <a:xfrm>
            <a:off x="525960" y="25146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Plot the plane where  z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0"/>
          <p:cNvSpPr/>
          <p:nvPr/>
        </p:nvSpPr>
        <p:spPr>
          <a:xfrm>
            <a:off x="406800" y="2824200"/>
            <a:ext cx="43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hree planes intersec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3"/>
          <p:cNvSpPr/>
          <p:nvPr/>
        </p:nvSpPr>
        <p:spPr>
          <a:xfrm>
            <a:off x="411480" y="24433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5"/>
          <p:cNvSpPr/>
          <p:nvPr/>
        </p:nvSpPr>
        <p:spPr>
          <a:xfrm>
            <a:off x="1608120" y="5229360"/>
            <a:ext cx="627120" cy="5666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6"/>
          <p:cNvSpPr/>
          <p:nvPr/>
        </p:nvSpPr>
        <p:spPr>
          <a:xfrm>
            <a:off x="2235240" y="4976640"/>
            <a:ext cx="704880" cy="819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7"/>
          <p:cNvSpPr/>
          <p:nvPr/>
        </p:nvSpPr>
        <p:spPr>
          <a:xfrm>
            <a:off x="1949400" y="492588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8"/>
          <p:cNvSpPr/>
          <p:nvPr/>
        </p:nvSpPr>
        <p:spPr>
          <a:xfrm>
            <a:off x="1949400" y="5000760"/>
            <a:ext cx="504720" cy="103176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9"/>
          <p:cNvSpPr/>
          <p:nvPr/>
        </p:nvSpPr>
        <p:spPr>
          <a:xfrm rot="538200">
            <a:off x="1755720" y="4249800"/>
            <a:ext cx="1689120" cy="74304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Group 20"/>
          <p:cNvGrpSpPr/>
          <p:nvPr/>
        </p:nvGrpSpPr>
        <p:grpSpPr>
          <a:xfrm>
            <a:off x="2451240" y="3911760"/>
            <a:ext cx="513720" cy="1055160"/>
            <a:chOff x="2451240" y="3911760"/>
            <a:chExt cx="513720" cy="1055160"/>
          </a:xfrm>
        </p:grpSpPr>
        <p:sp>
          <p:nvSpPr>
            <p:cNvPr id="1305" name="Freeform 21"/>
            <p:cNvSpPr/>
            <p:nvPr/>
          </p:nvSpPr>
          <p:spPr>
            <a:xfrm>
              <a:off x="2456280" y="3924360"/>
              <a:ext cx="503640" cy="102960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1029600"/>
                <a:gd name="textAreaBottom" fmla="*/ 1029960 h 10296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2"/>
            <p:cNvSpPr/>
            <p:nvPr/>
          </p:nvSpPr>
          <p:spPr>
            <a:xfrm>
              <a:off x="2451240" y="3911760"/>
              <a:ext cx="513720" cy="105516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1055160"/>
                <a:gd name="textAreaBottom" fmla="*/ 1055520 h 1055160"/>
              </a:gdLst>
              <a:ahLst/>
              <a:rect l="textAreaLeft" t="textAreaTop" r="textAreaRight" b="textAreaBottom"/>
              <a:pathLst>
                <a:path w="620" h="1740">
                  <a:moveTo>
                    <a:pt x="616" y="28"/>
                  </a:moveTo>
                  <a:lnTo>
                    <a:pt x="612" y="22"/>
                  </a:lnTo>
                  <a:lnTo>
                    <a:pt x="605" y="22"/>
                  </a:lnTo>
                  <a:lnTo>
                    <a:pt x="577" y="868"/>
                  </a:lnTo>
                  <a:lnTo>
                    <a:pt x="584" y="868"/>
                  </a:lnTo>
                  <a:lnTo>
                    <a:pt x="579" y="864"/>
                  </a:lnTo>
                  <a:lnTo>
                    <a:pt x="3" y="1713"/>
                  </a:lnTo>
                  <a:lnTo>
                    <a:pt x="8" y="1718"/>
                  </a:lnTo>
                  <a:lnTo>
                    <a:pt x="15" y="1718"/>
                  </a:lnTo>
                  <a:lnTo>
                    <a:pt x="42" y="873"/>
                  </a:lnTo>
                  <a:lnTo>
                    <a:pt x="36" y="873"/>
                  </a:lnTo>
                  <a:lnTo>
                    <a:pt x="40" y="878"/>
                  </a:lnTo>
                  <a:lnTo>
                    <a:pt x="616" y="28"/>
                  </a:lnTo>
                  <a:close/>
                  <a:moveTo>
                    <a:pt x="31" y="868"/>
                  </a:moveTo>
                  <a:lnTo>
                    <a:pt x="29" y="871"/>
                  </a:lnTo>
                  <a:lnTo>
                    <a:pt x="29" y="873"/>
                  </a:lnTo>
                  <a:lnTo>
                    <a:pt x="1" y="1718"/>
                  </a:lnTo>
                  <a:lnTo>
                    <a:pt x="0" y="1740"/>
                  </a:lnTo>
                  <a:lnTo>
                    <a:pt x="12" y="1723"/>
                  </a:lnTo>
                  <a:lnTo>
                    <a:pt x="588" y="874"/>
                  </a:lnTo>
                  <a:lnTo>
                    <a:pt x="591" y="871"/>
                  </a:lnTo>
                  <a:lnTo>
                    <a:pt x="591" y="868"/>
                  </a:lnTo>
                  <a:lnTo>
                    <a:pt x="618" y="22"/>
                  </a:lnTo>
                  <a:lnTo>
                    <a:pt x="620" y="0"/>
                  </a:lnTo>
                  <a:lnTo>
                    <a:pt x="607" y="18"/>
                  </a:lnTo>
                  <a:lnTo>
                    <a:pt x="31" y="86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Freeform 23"/>
          <p:cNvSpPr/>
          <p:nvPr/>
        </p:nvSpPr>
        <p:spPr>
          <a:xfrm rot="538200">
            <a:off x="1398240" y="4627440"/>
            <a:ext cx="1689120" cy="741600"/>
          </a:xfrm>
          <a:custGeom>
            <a:avLst/>
            <a:gdLst>
              <a:gd name="textAreaLeft" fmla="*/ 0 w 1689120"/>
              <a:gd name="textAreaRight" fmla="*/ 1689480 w 1689120"/>
              <a:gd name="textAreaTop" fmla="*/ 0 h 741600"/>
              <a:gd name="textAreaBottom" fmla="*/ 741960 h 741600"/>
            </a:gdLst>
            <a:ahLst/>
            <a:rect l="textAreaLeft" t="textAreaTop" r="textAreaRight" b="textAreaBottom"/>
            <a:pathLst>
              <a:path w="2408" h="1151">
                <a:moveTo>
                  <a:pt x="510" y="323"/>
                </a:moveTo>
                <a:lnTo>
                  <a:pt x="0" y="1151"/>
                </a:lnTo>
                <a:lnTo>
                  <a:pt x="1898" y="828"/>
                </a:lnTo>
                <a:lnTo>
                  <a:pt x="2408" y="0"/>
                </a:lnTo>
                <a:lnTo>
                  <a:pt x="510" y="323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24"/>
          <p:cNvSpPr/>
          <p:nvPr/>
        </p:nvSpPr>
        <p:spPr>
          <a:xfrm rot="538200">
            <a:off x="1389240" y="4620960"/>
            <a:ext cx="1706400" cy="752400"/>
          </a:xfrm>
          <a:custGeom>
            <a:avLst/>
            <a:gdLst>
              <a:gd name="textAreaLeft" fmla="*/ 0 w 1706400"/>
              <a:gd name="textAreaRight" fmla="*/ 1706760 w 17064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434" h="1169">
                <a:moveTo>
                  <a:pt x="9" y="1155"/>
                </a:moveTo>
                <a:lnTo>
                  <a:pt x="0" y="1169"/>
                </a:lnTo>
                <a:lnTo>
                  <a:pt x="14" y="1166"/>
                </a:lnTo>
                <a:lnTo>
                  <a:pt x="1913" y="844"/>
                </a:lnTo>
                <a:lnTo>
                  <a:pt x="1916" y="844"/>
                </a:lnTo>
                <a:lnTo>
                  <a:pt x="1917" y="842"/>
                </a:lnTo>
                <a:lnTo>
                  <a:pt x="2426" y="14"/>
                </a:lnTo>
                <a:lnTo>
                  <a:pt x="2434" y="0"/>
                </a:lnTo>
                <a:lnTo>
                  <a:pt x="2420" y="3"/>
                </a:lnTo>
                <a:lnTo>
                  <a:pt x="522" y="325"/>
                </a:lnTo>
                <a:lnTo>
                  <a:pt x="519" y="325"/>
                </a:lnTo>
                <a:lnTo>
                  <a:pt x="519" y="327"/>
                </a:lnTo>
                <a:lnTo>
                  <a:pt x="9" y="1155"/>
                </a:lnTo>
                <a:close/>
                <a:moveTo>
                  <a:pt x="529" y="336"/>
                </a:moveTo>
                <a:lnTo>
                  <a:pt x="523" y="332"/>
                </a:lnTo>
                <a:lnTo>
                  <a:pt x="525" y="338"/>
                </a:lnTo>
                <a:lnTo>
                  <a:pt x="2422" y="16"/>
                </a:lnTo>
                <a:lnTo>
                  <a:pt x="2421" y="9"/>
                </a:lnTo>
                <a:lnTo>
                  <a:pt x="2416" y="5"/>
                </a:lnTo>
                <a:lnTo>
                  <a:pt x="1907" y="833"/>
                </a:lnTo>
                <a:lnTo>
                  <a:pt x="1911" y="837"/>
                </a:lnTo>
                <a:lnTo>
                  <a:pt x="1910" y="831"/>
                </a:lnTo>
                <a:lnTo>
                  <a:pt x="12" y="1153"/>
                </a:lnTo>
                <a:lnTo>
                  <a:pt x="13" y="1160"/>
                </a:lnTo>
                <a:lnTo>
                  <a:pt x="19" y="1164"/>
                </a:lnTo>
                <a:lnTo>
                  <a:pt x="529" y="33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25"/>
          <p:cNvSpPr/>
          <p:nvPr/>
        </p:nvSpPr>
        <p:spPr>
          <a:xfrm>
            <a:off x="2235240" y="4452840"/>
            <a:ext cx="70488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26"/>
          <p:cNvSpPr/>
          <p:nvPr/>
        </p:nvSpPr>
        <p:spPr>
          <a:xfrm>
            <a:off x="1608120" y="4452840"/>
            <a:ext cx="627120" cy="528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7"/>
          <p:cNvSpPr/>
          <p:nvPr/>
        </p:nvSpPr>
        <p:spPr>
          <a:xfrm>
            <a:off x="2070000" y="573408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8"/>
          <p:cNvSpPr/>
          <p:nvPr/>
        </p:nvSpPr>
        <p:spPr>
          <a:xfrm flipV="1">
            <a:off x="1652760" y="3820680"/>
            <a:ext cx="0" cy="13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29"/>
          <p:cNvSpPr/>
          <p:nvPr/>
        </p:nvSpPr>
        <p:spPr>
          <a:xfrm flipV="1">
            <a:off x="1531800" y="5506920"/>
            <a:ext cx="320760" cy="34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30"/>
          <p:cNvSpPr/>
          <p:nvPr/>
        </p:nvSpPr>
        <p:spPr>
          <a:xfrm>
            <a:off x="1481040" y="5734080"/>
            <a:ext cx="474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31"/>
          <p:cNvSpPr/>
          <p:nvPr/>
        </p:nvSpPr>
        <p:spPr>
          <a:xfrm flipV="1">
            <a:off x="1652760" y="5240160"/>
            <a:ext cx="0" cy="69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3559320" y="5745240"/>
            <a:ext cx="3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1366920" y="3751200"/>
            <a:ext cx="3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34"/>
          <p:cNvSpPr/>
          <p:nvPr/>
        </p:nvSpPr>
        <p:spPr>
          <a:xfrm>
            <a:off x="1968480" y="4444920"/>
            <a:ext cx="504720" cy="1030320"/>
          </a:xfrm>
          <a:custGeom>
            <a:avLst/>
            <a:gdLst>
              <a:gd name="textAreaLeft" fmla="*/ 0 w 504720"/>
              <a:gd name="textAreaRight" fmla="*/ 505080 w 5047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604" h="1696">
                <a:moveTo>
                  <a:pt x="28" y="851"/>
                </a:moveTo>
                <a:lnTo>
                  <a:pt x="604" y="0"/>
                </a:lnTo>
                <a:lnTo>
                  <a:pt x="576" y="846"/>
                </a:lnTo>
                <a:lnTo>
                  <a:pt x="0" y="1696"/>
                </a:lnTo>
                <a:lnTo>
                  <a:pt x="28" y="8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5"/>
          <p:cNvSpPr/>
          <p:nvPr/>
        </p:nvSpPr>
        <p:spPr>
          <a:xfrm>
            <a:off x="2946600" y="3844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36"/>
          <p:cNvSpPr/>
          <p:nvPr/>
        </p:nvSpPr>
        <p:spPr>
          <a:xfrm>
            <a:off x="2907000" y="52941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37"/>
          <p:cNvSpPr/>
          <p:nvPr/>
        </p:nvSpPr>
        <p:spPr>
          <a:xfrm>
            <a:off x="3356280" y="4565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4046400" y="2367000"/>
            <a:ext cx="5097600" cy="4506840"/>
            <a:chOff x="4046400" y="2367000"/>
            <a:chExt cx="5097600" cy="4506840"/>
          </a:xfrm>
        </p:grpSpPr>
        <p:sp>
          <p:nvSpPr>
            <p:cNvPr id="1323" name="Rectangle 3"/>
            <p:cNvSpPr/>
            <p:nvPr/>
          </p:nvSpPr>
          <p:spPr>
            <a:xfrm>
              <a:off x="4046400" y="2367000"/>
              <a:ext cx="5097600" cy="4052880"/>
            </a:xfrm>
            <a:prstGeom prst="rect">
              <a:avLst/>
            </a:prstGeom>
            <a:solidFill>
              <a:srgbClr val="93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4"/>
            <p:cNvSpPr/>
            <p:nvPr/>
          </p:nvSpPr>
          <p:spPr>
            <a:xfrm>
              <a:off x="4057560" y="6343560"/>
              <a:ext cx="2732040" cy="530280"/>
            </a:xfrm>
            <a:prstGeom prst="rect">
              <a:avLst/>
            </a:prstGeom>
            <a:solidFill>
              <a:srgbClr val="93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Rectangle 5"/>
          <p:cNvSpPr/>
          <p:nvPr/>
        </p:nvSpPr>
        <p:spPr>
          <a:xfrm>
            <a:off x="-12600" y="2363760"/>
            <a:ext cx="470844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0"/>
            <a:ext cx="9144000" cy="1525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7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8"/>
          <p:cNvSpPr/>
          <p:nvPr/>
        </p:nvSpPr>
        <p:spPr>
          <a:xfrm>
            <a:off x="3746520" y="1728720"/>
            <a:ext cx="24256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9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10"/>
          <p:cNvSpPr/>
          <p:nvPr/>
        </p:nvSpPr>
        <p:spPr>
          <a:xfrm>
            <a:off x="406800" y="2824200"/>
            <a:ext cx="43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three planes intersec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11"/>
          <p:cNvSpPr/>
          <p:nvPr/>
        </p:nvSpPr>
        <p:spPr>
          <a:xfrm>
            <a:off x="423720" y="-52920"/>
            <a:ext cx="851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12"/>
          <p:cNvSpPr/>
          <p:nvPr/>
        </p:nvSpPr>
        <p:spPr>
          <a:xfrm>
            <a:off x="376560" y="182880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clearly hav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unique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13"/>
          <p:cNvSpPr/>
          <p:nvPr/>
        </p:nvSpPr>
        <p:spPr>
          <a:xfrm>
            <a:off x="411480" y="244332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4" name="Group 14"/>
          <p:cNvGrpSpPr/>
          <p:nvPr/>
        </p:nvGrpSpPr>
        <p:grpSpPr>
          <a:xfrm>
            <a:off x="1341360" y="3751200"/>
            <a:ext cx="2693880" cy="2393280"/>
            <a:chOff x="1341360" y="3751200"/>
            <a:chExt cx="2693880" cy="2393280"/>
          </a:xfrm>
        </p:grpSpPr>
        <p:sp>
          <p:nvSpPr>
            <p:cNvPr id="1335" name="Rectangle 15"/>
            <p:cNvSpPr/>
            <p:nvPr/>
          </p:nvSpPr>
          <p:spPr>
            <a:xfrm>
              <a:off x="1607400" y="5229720"/>
              <a:ext cx="627120" cy="56664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16"/>
            <p:cNvSpPr/>
            <p:nvPr/>
          </p:nvSpPr>
          <p:spPr>
            <a:xfrm>
              <a:off x="2234520" y="4976280"/>
              <a:ext cx="705600" cy="8200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17"/>
            <p:cNvSpPr/>
            <p:nvPr/>
          </p:nvSpPr>
          <p:spPr>
            <a:xfrm>
              <a:off x="1949400" y="4925880"/>
              <a:ext cx="504360" cy="102996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29960"/>
                <a:gd name="textAreaBottom" fmla="*/ 1030320 h 102996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18"/>
            <p:cNvSpPr/>
            <p:nvPr/>
          </p:nvSpPr>
          <p:spPr>
            <a:xfrm>
              <a:off x="1949400" y="5000400"/>
              <a:ext cx="504360" cy="103140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31400"/>
                <a:gd name="textAreaBottom" fmla="*/ 1031760 h 103140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19"/>
            <p:cNvSpPr/>
            <p:nvPr/>
          </p:nvSpPr>
          <p:spPr>
            <a:xfrm rot="538200">
              <a:off x="1755360" y="4250520"/>
              <a:ext cx="1689480" cy="742320"/>
            </a:xfrm>
            <a:custGeom>
              <a:avLst/>
              <a:gdLst>
                <a:gd name="textAreaLeft" fmla="*/ 0 w 1689480"/>
                <a:gd name="textAreaRight" fmla="*/ 1689840 w 16894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2408" h="1151">
                  <a:moveTo>
                    <a:pt x="510" y="323"/>
                  </a:moveTo>
                  <a:lnTo>
                    <a:pt x="0" y="1151"/>
                  </a:lnTo>
                  <a:lnTo>
                    <a:pt x="1898" y="828"/>
                  </a:lnTo>
                  <a:lnTo>
                    <a:pt x="2408" y="0"/>
                  </a:lnTo>
                  <a:lnTo>
                    <a:pt x="510" y="32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0" name="Group 20"/>
            <p:cNvGrpSpPr/>
            <p:nvPr/>
          </p:nvGrpSpPr>
          <p:grpSpPr>
            <a:xfrm>
              <a:off x="2451240" y="3912120"/>
              <a:ext cx="514080" cy="1055160"/>
              <a:chOff x="2451240" y="3912120"/>
              <a:chExt cx="514080" cy="1055160"/>
            </a:xfrm>
          </p:grpSpPr>
          <p:sp>
            <p:nvSpPr>
              <p:cNvPr id="1341" name="Freeform 21"/>
              <p:cNvSpPr/>
              <p:nvPr/>
            </p:nvSpPr>
            <p:spPr>
              <a:xfrm>
                <a:off x="2456280" y="3924720"/>
                <a:ext cx="504000" cy="1029600"/>
              </a:xfrm>
              <a:custGeom>
                <a:avLst/>
                <a:gdLst>
                  <a:gd name="textAreaLeft" fmla="*/ 0 w 504000"/>
                  <a:gd name="textAreaRight" fmla="*/ 504000 w 504000"/>
                  <a:gd name="textAreaTop" fmla="*/ 0 h 1029600"/>
                  <a:gd name="textAreaBottom" fmla="*/ 1029960 h 1029600"/>
                </a:gdLst>
                <a:ahLst/>
                <a:rect l="textAreaLeft" t="textAreaTop" r="textAreaRight" b="textAreaBottom"/>
                <a:pathLst>
                  <a:path w="604" h="1696">
                    <a:moveTo>
                      <a:pt x="28" y="851"/>
                    </a:moveTo>
                    <a:lnTo>
                      <a:pt x="604" y="0"/>
                    </a:lnTo>
                    <a:lnTo>
                      <a:pt x="576" y="846"/>
                    </a:lnTo>
                    <a:lnTo>
                      <a:pt x="0" y="1696"/>
                    </a:lnTo>
                    <a:lnTo>
                      <a:pt x="28" y="85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22"/>
              <p:cNvSpPr/>
              <p:nvPr/>
            </p:nvSpPr>
            <p:spPr>
              <a:xfrm>
                <a:off x="2451240" y="3912120"/>
                <a:ext cx="514080" cy="105516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055160"/>
                  <a:gd name="textAreaBottom" fmla="*/ 1055520 h 1055160"/>
                </a:gdLst>
                <a:ahLst/>
                <a:rect l="textAreaLeft" t="textAreaTop" r="textAreaRight" b="textAreaBottom"/>
                <a:pathLst>
                  <a:path w="620" h="1740">
                    <a:moveTo>
                      <a:pt x="616" y="28"/>
                    </a:moveTo>
                    <a:lnTo>
                      <a:pt x="612" y="22"/>
                    </a:lnTo>
                    <a:lnTo>
                      <a:pt x="605" y="22"/>
                    </a:lnTo>
                    <a:lnTo>
                      <a:pt x="577" y="868"/>
                    </a:lnTo>
                    <a:lnTo>
                      <a:pt x="584" y="868"/>
                    </a:lnTo>
                    <a:lnTo>
                      <a:pt x="579" y="864"/>
                    </a:lnTo>
                    <a:lnTo>
                      <a:pt x="3" y="1713"/>
                    </a:lnTo>
                    <a:lnTo>
                      <a:pt x="8" y="1718"/>
                    </a:lnTo>
                    <a:lnTo>
                      <a:pt x="15" y="1718"/>
                    </a:lnTo>
                    <a:lnTo>
                      <a:pt x="42" y="873"/>
                    </a:lnTo>
                    <a:lnTo>
                      <a:pt x="36" y="873"/>
                    </a:lnTo>
                    <a:lnTo>
                      <a:pt x="40" y="878"/>
                    </a:lnTo>
                    <a:lnTo>
                      <a:pt x="616" y="28"/>
                    </a:lnTo>
                    <a:close/>
                    <a:moveTo>
                      <a:pt x="31" y="868"/>
                    </a:moveTo>
                    <a:lnTo>
                      <a:pt x="29" y="871"/>
                    </a:lnTo>
                    <a:lnTo>
                      <a:pt x="29" y="873"/>
                    </a:lnTo>
                    <a:lnTo>
                      <a:pt x="1" y="1718"/>
                    </a:lnTo>
                    <a:lnTo>
                      <a:pt x="0" y="1740"/>
                    </a:lnTo>
                    <a:lnTo>
                      <a:pt x="12" y="1723"/>
                    </a:lnTo>
                    <a:lnTo>
                      <a:pt x="588" y="874"/>
                    </a:lnTo>
                    <a:lnTo>
                      <a:pt x="591" y="871"/>
                    </a:lnTo>
                    <a:lnTo>
                      <a:pt x="591" y="868"/>
                    </a:lnTo>
                    <a:lnTo>
                      <a:pt x="618" y="22"/>
                    </a:lnTo>
                    <a:lnTo>
                      <a:pt x="620" y="0"/>
                    </a:lnTo>
                    <a:lnTo>
                      <a:pt x="607" y="18"/>
                    </a:lnTo>
                    <a:lnTo>
                      <a:pt x="31" y="8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3" name="Freeform 23"/>
            <p:cNvSpPr/>
            <p:nvPr/>
          </p:nvSpPr>
          <p:spPr>
            <a:xfrm rot="538200">
              <a:off x="1397880" y="4626720"/>
              <a:ext cx="1689120" cy="741240"/>
            </a:xfrm>
            <a:custGeom>
              <a:avLst/>
              <a:gdLst>
                <a:gd name="textAreaLeft" fmla="*/ 0 w 1689120"/>
                <a:gd name="textAreaRight" fmla="*/ 1689480 w 1689120"/>
                <a:gd name="textAreaTop" fmla="*/ 0 h 741240"/>
                <a:gd name="textAreaBottom" fmla="*/ 741600 h 741240"/>
              </a:gdLst>
              <a:ahLst/>
              <a:rect l="textAreaLeft" t="textAreaTop" r="textAreaRight" b="textAreaBottom"/>
              <a:pathLst>
                <a:path w="2408" h="1151">
                  <a:moveTo>
                    <a:pt x="510" y="323"/>
                  </a:moveTo>
                  <a:lnTo>
                    <a:pt x="0" y="1151"/>
                  </a:lnTo>
                  <a:lnTo>
                    <a:pt x="1898" y="828"/>
                  </a:lnTo>
                  <a:lnTo>
                    <a:pt x="2408" y="0"/>
                  </a:lnTo>
                  <a:lnTo>
                    <a:pt x="510" y="323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24"/>
            <p:cNvSpPr/>
            <p:nvPr/>
          </p:nvSpPr>
          <p:spPr>
            <a:xfrm rot="538200">
              <a:off x="1389600" y="4621320"/>
              <a:ext cx="1705680" cy="752400"/>
            </a:xfrm>
            <a:custGeom>
              <a:avLst/>
              <a:gdLst>
                <a:gd name="textAreaLeft" fmla="*/ 0 w 1705680"/>
                <a:gd name="textAreaRight" fmla="*/ 1706040 w 170568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2434" h="1169">
                  <a:moveTo>
                    <a:pt x="9" y="1155"/>
                  </a:moveTo>
                  <a:lnTo>
                    <a:pt x="0" y="1169"/>
                  </a:lnTo>
                  <a:lnTo>
                    <a:pt x="14" y="1166"/>
                  </a:lnTo>
                  <a:lnTo>
                    <a:pt x="1913" y="844"/>
                  </a:lnTo>
                  <a:lnTo>
                    <a:pt x="1916" y="844"/>
                  </a:lnTo>
                  <a:lnTo>
                    <a:pt x="1917" y="842"/>
                  </a:lnTo>
                  <a:lnTo>
                    <a:pt x="2426" y="14"/>
                  </a:lnTo>
                  <a:lnTo>
                    <a:pt x="2434" y="0"/>
                  </a:lnTo>
                  <a:lnTo>
                    <a:pt x="2420" y="3"/>
                  </a:lnTo>
                  <a:lnTo>
                    <a:pt x="522" y="325"/>
                  </a:lnTo>
                  <a:lnTo>
                    <a:pt x="519" y="325"/>
                  </a:lnTo>
                  <a:lnTo>
                    <a:pt x="519" y="327"/>
                  </a:lnTo>
                  <a:lnTo>
                    <a:pt x="9" y="1155"/>
                  </a:lnTo>
                  <a:close/>
                  <a:moveTo>
                    <a:pt x="529" y="336"/>
                  </a:moveTo>
                  <a:lnTo>
                    <a:pt x="523" y="332"/>
                  </a:lnTo>
                  <a:lnTo>
                    <a:pt x="525" y="338"/>
                  </a:lnTo>
                  <a:lnTo>
                    <a:pt x="2422" y="16"/>
                  </a:lnTo>
                  <a:lnTo>
                    <a:pt x="2421" y="9"/>
                  </a:lnTo>
                  <a:lnTo>
                    <a:pt x="2416" y="5"/>
                  </a:lnTo>
                  <a:lnTo>
                    <a:pt x="1907" y="833"/>
                  </a:lnTo>
                  <a:lnTo>
                    <a:pt x="1911" y="837"/>
                  </a:lnTo>
                  <a:lnTo>
                    <a:pt x="1910" y="831"/>
                  </a:lnTo>
                  <a:lnTo>
                    <a:pt x="12" y="1153"/>
                  </a:lnTo>
                  <a:lnTo>
                    <a:pt x="13" y="1160"/>
                  </a:lnTo>
                  <a:lnTo>
                    <a:pt x="19" y="1164"/>
                  </a:lnTo>
                  <a:lnTo>
                    <a:pt x="529" y="3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25"/>
            <p:cNvSpPr/>
            <p:nvPr/>
          </p:nvSpPr>
          <p:spPr>
            <a:xfrm>
              <a:off x="2234520" y="4453200"/>
              <a:ext cx="705600" cy="5281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26"/>
            <p:cNvSpPr/>
            <p:nvPr/>
          </p:nvSpPr>
          <p:spPr>
            <a:xfrm>
              <a:off x="1607400" y="4453200"/>
              <a:ext cx="627120" cy="52812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27"/>
            <p:cNvSpPr/>
            <p:nvPr/>
          </p:nvSpPr>
          <p:spPr>
            <a:xfrm>
              <a:off x="2070000" y="5734080"/>
              <a:ext cx="171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Line 28"/>
            <p:cNvSpPr/>
            <p:nvPr/>
          </p:nvSpPr>
          <p:spPr>
            <a:xfrm flipV="1">
              <a:off x="1651680" y="3820320"/>
              <a:ext cx="0" cy="134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29"/>
            <p:cNvSpPr/>
            <p:nvPr/>
          </p:nvSpPr>
          <p:spPr>
            <a:xfrm flipV="1">
              <a:off x="1531440" y="5507280"/>
              <a:ext cx="320400" cy="34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30"/>
            <p:cNvSpPr/>
            <p:nvPr/>
          </p:nvSpPr>
          <p:spPr>
            <a:xfrm>
              <a:off x="1480680" y="5734080"/>
              <a:ext cx="47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31"/>
            <p:cNvSpPr/>
            <p:nvPr/>
          </p:nvSpPr>
          <p:spPr>
            <a:xfrm flipV="1">
              <a:off x="1651680" y="5239800"/>
              <a:ext cx="0" cy="69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Text Box 32"/>
            <p:cNvSpPr/>
            <p:nvPr/>
          </p:nvSpPr>
          <p:spPr>
            <a:xfrm>
              <a:off x="3558960" y="5745600"/>
              <a:ext cx="32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Text Box 33"/>
            <p:cNvSpPr/>
            <p:nvPr/>
          </p:nvSpPr>
          <p:spPr>
            <a:xfrm>
              <a:off x="1366920" y="37512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34"/>
            <p:cNvSpPr/>
            <p:nvPr/>
          </p:nvSpPr>
          <p:spPr>
            <a:xfrm>
              <a:off x="1968480" y="4444200"/>
              <a:ext cx="504360" cy="10303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604" h="1696">
                  <a:moveTo>
                    <a:pt x="28" y="851"/>
                  </a:moveTo>
                  <a:lnTo>
                    <a:pt x="604" y="0"/>
                  </a:lnTo>
                  <a:lnTo>
                    <a:pt x="576" y="846"/>
                  </a:lnTo>
                  <a:lnTo>
                    <a:pt x="0" y="1696"/>
                  </a:lnTo>
                  <a:lnTo>
                    <a:pt x="28" y="851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35"/>
            <p:cNvSpPr/>
            <p:nvPr/>
          </p:nvSpPr>
          <p:spPr>
            <a:xfrm>
              <a:off x="2946960" y="384516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fb6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000" spc="-1" strike="noStrike">
                  <a:solidFill>
                    <a:srgbClr val="9fb6ff"/>
                  </a:solidFill>
                  <a:latin typeface="Times New Roman"/>
                  <a:ea typeface="Times New Roman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36"/>
            <p:cNvSpPr/>
            <p:nvPr/>
          </p:nvSpPr>
          <p:spPr>
            <a:xfrm>
              <a:off x="2907000" y="5294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  <a:ea typeface="Times New Roman"/>
                </a:rPr>
                <a:t> =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37"/>
            <p:cNvSpPr/>
            <p:nvPr/>
          </p:nvSpPr>
          <p:spPr>
            <a:xfrm>
              <a:off x="3356280" y="4565880"/>
              <a:ext cx="67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z</a:t>
              </a: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 =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38"/>
          <p:cNvSpPr/>
          <p:nvPr/>
        </p:nvSpPr>
        <p:spPr>
          <a:xfrm>
            <a:off x="4794840" y="2825640"/>
            <a:ext cx="38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In general the planes may no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et at right angles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9" name="Group 39"/>
          <p:cNvGrpSpPr/>
          <p:nvPr/>
        </p:nvGrpSpPr>
        <p:grpSpPr>
          <a:xfrm>
            <a:off x="5765760" y="3753000"/>
            <a:ext cx="2070720" cy="2151360"/>
            <a:chOff x="5765760" y="3753000"/>
            <a:chExt cx="2070720" cy="2151360"/>
          </a:xfrm>
        </p:grpSpPr>
        <p:sp>
          <p:nvSpPr>
            <p:cNvPr id="1360" name="Freeform 40"/>
            <p:cNvSpPr/>
            <p:nvPr/>
          </p:nvSpPr>
          <p:spPr>
            <a:xfrm>
              <a:off x="6059520" y="5315040"/>
              <a:ext cx="452520" cy="49680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Group 41"/>
            <p:cNvGrpSpPr/>
            <p:nvPr/>
          </p:nvGrpSpPr>
          <p:grpSpPr>
            <a:xfrm>
              <a:off x="5765760" y="3753000"/>
              <a:ext cx="2070720" cy="2151360"/>
              <a:chOff x="5765760" y="3753000"/>
              <a:chExt cx="2070720" cy="2151360"/>
            </a:xfrm>
          </p:grpSpPr>
          <p:grpSp>
            <p:nvGrpSpPr>
              <p:cNvPr id="1362" name="Group 42"/>
              <p:cNvGrpSpPr/>
              <p:nvPr/>
            </p:nvGrpSpPr>
            <p:grpSpPr>
              <a:xfrm>
                <a:off x="6180480" y="4714920"/>
                <a:ext cx="1656000" cy="678240"/>
                <a:chOff x="6180480" y="4714920"/>
                <a:chExt cx="1656000" cy="678240"/>
              </a:xfrm>
            </p:grpSpPr>
            <p:sp>
              <p:nvSpPr>
                <p:cNvPr id="1363" name="Freeform 43"/>
                <p:cNvSpPr/>
                <p:nvPr/>
              </p:nvSpPr>
              <p:spPr>
                <a:xfrm>
                  <a:off x="6187680" y="4720320"/>
                  <a:ext cx="1641240" cy="667080"/>
                </a:xfrm>
                <a:custGeom>
                  <a:avLst/>
                  <a:gdLst>
                    <a:gd name="textAreaLeft" fmla="*/ 0 w 1641240"/>
                    <a:gd name="textAreaRight" fmla="*/ 1641600 w 1641240"/>
                    <a:gd name="textAreaTop" fmla="*/ 0 h 667080"/>
                    <a:gd name="textAreaBottom" fmla="*/ 667440 h 66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44"/>
                <p:cNvSpPr/>
                <p:nvPr/>
              </p:nvSpPr>
              <p:spPr>
                <a:xfrm>
                  <a:off x="6180480" y="4714920"/>
                  <a:ext cx="1656000" cy="678240"/>
                </a:xfrm>
                <a:custGeom>
                  <a:avLst/>
                  <a:gdLst>
                    <a:gd name="textAreaLeft" fmla="*/ 0 w 1656000"/>
                    <a:gd name="textAreaRight" fmla="*/ 1656360 w 1656000"/>
                    <a:gd name="textAreaTop" fmla="*/ 0 h 678240"/>
                    <a:gd name="textAreaBottom" fmla="*/ 678600 h 67824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5" name="Group 45"/>
              <p:cNvGrpSpPr/>
              <p:nvPr/>
            </p:nvGrpSpPr>
            <p:grpSpPr>
              <a:xfrm>
                <a:off x="6378840" y="4812840"/>
                <a:ext cx="390240" cy="1091520"/>
                <a:chOff x="6378840" y="4812840"/>
                <a:chExt cx="390240" cy="1091520"/>
              </a:xfrm>
            </p:grpSpPr>
            <p:sp>
              <p:nvSpPr>
                <p:cNvPr id="1366" name="Freeform 46"/>
                <p:cNvSpPr/>
                <p:nvPr/>
              </p:nvSpPr>
              <p:spPr>
                <a:xfrm>
                  <a:off x="6384240" y="4825800"/>
                  <a:ext cx="378720" cy="1065240"/>
                </a:xfrm>
                <a:custGeom>
                  <a:avLst/>
                  <a:gdLst>
                    <a:gd name="textAreaLeft" fmla="*/ 0 w 378720"/>
                    <a:gd name="textAreaRight" fmla="*/ 379080 w 378720"/>
                    <a:gd name="textAreaTop" fmla="*/ 0 h 1065240"/>
                    <a:gd name="textAreaBottom" fmla="*/ 1065600 h 106524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47"/>
                <p:cNvSpPr/>
                <p:nvPr/>
              </p:nvSpPr>
              <p:spPr>
                <a:xfrm>
                  <a:off x="6378840" y="4812840"/>
                  <a:ext cx="390240" cy="1091520"/>
                </a:xfrm>
                <a:custGeom>
                  <a:avLst/>
                  <a:gdLst>
                    <a:gd name="textAreaLeft" fmla="*/ 0 w 390240"/>
                    <a:gd name="textAreaRight" fmla="*/ 390600 w 390240"/>
                    <a:gd name="textAreaTop" fmla="*/ 0 h 1091520"/>
                    <a:gd name="textAreaBottom" fmla="*/ 1091880 h 109152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Group 48"/>
              <p:cNvGrpSpPr/>
              <p:nvPr/>
            </p:nvGrpSpPr>
            <p:grpSpPr>
              <a:xfrm>
                <a:off x="6199560" y="4188240"/>
                <a:ext cx="1531800" cy="735480"/>
                <a:chOff x="6199560" y="4188240"/>
                <a:chExt cx="1531800" cy="735480"/>
              </a:xfrm>
            </p:grpSpPr>
            <p:sp>
              <p:nvSpPr>
                <p:cNvPr id="1369" name="Freeform 49"/>
                <p:cNvSpPr/>
                <p:nvPr/>
              </p:nvSpPr>
              <p:spPr>
                <a:xfrm>
                  <a:off x="6208920" y="4194000"/>
                  <a:ext cx="1513080" cy="723960"/>
                </a:xfrm>
                <a:custGeom>
                  <a:avLst/>
                  <a:gdLst>
                    <a:gd name="textAreaLeft" fmla="*/ 0 w 1513080"/>
                    <a:gd name="textAreaRight" fmla="*/ 1513440 w 151308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50"/>
                <p:cNvSpPr/>
                <p:nvPr/>
              </p:nvSpPr>
              <p:spPr>
                <a:xfrm>
                  <a:off x="6199560" y="4188240"/>
                  <a:ext cx="1531800" cy="735480"/>
                </a:xfrm>
                <a:custGeom>
                  <a:avLst/>
                  <a:gdLst>
                    <a:gd name="textAreaLeft" fmla="*/ 0 w 1531800"/>
                    <a:gd name="textAreaRight" fmla="*/ 1532160 w 1531800"/>
                    <a:gd name="textAreaTop" fmla="*/ 0 h 735480"/>
                    <a:gd name="textAreaBottom" fmla="*/ 735840 h 73548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1" name="Group 51"/>
              <p:cNvGrpSpPr/>
              <p:nvPr/>
            </p:nvGrpSpPr>
            <p:grpSpPr>
              <a:xfrm>
                <a:off x="6742800" y="3753000"/>
                <a:ext cx="388080" cy="1093320"/>
                <a:chOff x="6742800" y="3753000"/>
                <a:chExt cx="388080" cy="1093320"/>
              </a:xfrm>
            </p:grpSpPr>
            <p:sp>
              <p:nvSpPr>
                <p:cNvPr id="1372" name="Freeform 52"/>
                <p:cNvSpPr/>
                <p:nvPr/>
              </p:nvSpPr>
              <p:spPr>
                <a:xfrm>
                  <a:off x="6746400" y="3765960"/>
                  <a:ext cx="380880" cy="106524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5240"/>
                    <a:gd name="textAreaBottom" fmla="*/ 1065600 h 106524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53"/>
                <p:cNvSpPr/>
                <p:nvPr/>
              </p:nvSpPr>
              <p:spPr>
                <a:xfrm>
                  <a:off x="6742800" y="3753000"/>
                  <a:ext cx="388080" cy="1093320"/>
                </a:xfrm>
                <a:custGeom>
                  <a:avLst/>
                  <a:gdLst>
                    <a:gd name="textAreaLeft" fmla="*/ 0 w 388080"/>
                    <a:gd name="textAreaRight" fmla="*/ 388440 w 388080"/>
                    <a:gd name="textAreaTop" fmla="*/ 0 h 1093320"/>
                    <a:gd name="textAreaBottom" fmla="*/ 1093680 h 109332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4" name="Group 54"/>
              <p:cNvGrpSpPr/>
              <p:nvPr/>
            </p:nvGrpSpPr>
            <p:grpSpPr>
              <a:xfrm>
                <a:off x="5765760" y="4260240"/>
                <a:ext cx="1636920" cy="667440"/>
                <a:chOff x="5765760" y="4260240"/>
                <a:chExt cx="1636920" cy="667440"/>
              </a:xfrm>
            </p:grpSpPr>
            <p:sp>
              <p:nvSpPr>
                <p:cNvPr id="1375" name="Freeform 55"/>
                <p:cNvSpPr/>
                <p:nvPr/>
              </p:nvSpPr>
              <p:spPr>
                <a:xfrm>
                  <a:off x="5772960" y="4263840"/>
                  <a:ext cx="1620360" cy="658080"/>
                </a:xfrm>
                <a:custGeom>
                  <a:avLst/>
                  <a:gdLst>
                    <a:gd name="textAreaLeft" fmla="*/ 0 w 1620360"/>
                    <a:gd name="textAreaRight" fmla="*/ 1620720 w 1620360"/>
                    <a:gd name="textAreaTop" fmla="*/ 0 h 658080"/>
                    <a:gd name="textAreaBottom" fmla="*/ 658440 h 65808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56"/>
                <p:cNvSpPr/>
                <p:nvPr/>
              </p:nvSpPr>
              <p:spPr>
                <a:xfrm>
                  <a:off x="5765760" y="4260240"/>
                  <a:ext cx="1636920" cy="667440"/>
                </a:xfrm>
                <a:custGeom>
                  <a:avLst/>
                  <a:gdLst>
                    <a:gd name="textAreaLeft" fmla="*/ 0 w 1636920"/>
                    <a:gd name="textAreaRight" fmla="*/ 1637280 w 1636920"/>
                    <a:gd name="textAreaTop" fmla="*/ 0 h 667440"/>
                    <a:gd name="textAreaBottom" fmla="*/ 667800 h 66744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7" name="Group 57"/>
              <p:cNvGrpSpPr/>
              <p:nvPr/>
            </p:nvGrpSpPr>
            <p:grpSpPr>
              <a:xfrm>
                <a:off x="5873040" y="4714920"/>
                <a:ext cx="1529640" cy="735480"/>
                <a:chOff x="5873040" y="4714920"/>
                <a:chExt cx="1529640" cy="735480"/>
              </a:xfrm>
            </p:grpSpPr>
            <p:sp>
              <p:nvSpPr>
                <p:cNvPr id="1378" name="Freeform 58"/>
                <p:cNvSpPr/>
                <p:nvPr/>
              </p:nvSpPr>
              <p:spPr>
                <a:xfrm>
                  <a:off x="5880600" y="4720320"/>
                  <a:ext cx="1514880" cy="723960"/>
                </a:xfrm>
                <a:custGeom>
                  <a:avLst/>
                  <a:gdLst>
                    <a:gd name="textAreaLeft" fmla="*/ 0 w 1514880"/>
                    <a:gd name="textAreaRight" fmla="*/ 1515240 w 151488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59"/>
                <p:cNvSpPr/>
                <p:nvPr/>
              </p:nvSpPr>
              <p:spPr>
                <a:xfrm>
                  <a:off x="5873040" y="4714920"/>
                  <a:ext cx="1529640" cy="735480"/>
                </a:xfrm>
                <a:custGeom>
                  <a:avLst/>
                  <a:gdLst>
                    <a:gd name="textAreaLeft" fmla="*/ 0 w 1529640"/>
                    <a:gd name="textAreaRight" fmla="*/ 1530000 w 1529640"/>
                    <a:gd name="textAreaTop" fmla="*/ 0 h 735480"/>
                    <a:gd name="textAreaBottom" fmla="*/ 735840 h 73548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0" name="Group 60"/>
              <p:cNvGrpSpPr/>
              <p:nvPr/>
            </p:nvGrpSpPr>
            <p:grpSpPr>
              <a:xfrm>
                <a:off x="6393600" y="4269600"/>
                <a:ext cx="388440" cy="1093680"/>
                <a:chOff x="6393600" y="4269600"/>
                <a:chExt cx="388440" cy="1093680"/>
              </a:xfrm>
            </p:grpSpPr>
            <p:sp>
              <p:nvSpPr>
                <p:cNvPr id="1381" name="Freeform 61"/>
                <p:cNvSpPr/>
                <p:nvPr/>
              </p:nvSpPr>
              <p:spPr>
                <a:xfrm>
                  <a:off x="6397200" y="4282560"/>
                  <a:ext cx="380880" cy="106740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067400"/>
                    <a:gd name="textAreaBottom" fmla="*/ 1067760 h 106740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62"/>
                <p:cNvSpPr/>
                <p:nvPr/>
              </p:nvSpPr>
              <p:spPr>
                <a:xfrm>
                  <a:off x="6393600" y="4269600"/>
                  <a:ext cx="388440" cy="1093680"/>
                </a:xfrm>
                <a:custGeom>
                  <a:avLst/>
                  <a:gdLst>
                    <a:gd name="textAreaLeft" fmla="*/ 0 w 388440"/>
                    <a:gd name="textAreaRight" fmla="*/ 388800 w 388440"/>
                    <a:gd name="textAreaTop" fmla="*/ 0 h 1093680"/>
                    <a:gd name="textAreaBottom" fmla="*/ 1094040 h 10936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3" name="Freeform 63"/>
            <p:cNvSpPr/>
            <p:nvPr/>
          </p:nvSpPr>
          <p:spPr>
            <a:xfrm>
              <a:off x="6213600" y="3922560"/>
              <a:ext cx="112680" cy="113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64"/>
            <p:cNvSpPr/>
            <p:nvPr/>
          </p:nvSpPr>
          <p:spPr>
            <a:xfrm>
              <a:off x="6254640" y="4854600"/>
              <a:ext cx="22320" cy="37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65"/>
            <p:cNvSpPr/>
            <p:nvPr/>
          </p:nvSpPr>
          <p:spPr>
            <a:xfrm>
              <a:off x="6116760" y="5594400"/>
              <a:ext cx="2872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66"/>
            <p:cNvSpPr/>
            <p:nvPr/>
          </p:nvSpPr>
          <p:spPr>
            <a:xfrm>
              <a:off x="6529320" y="5595840"/>
              <a:ext cx="118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7"/>
            <p:cNvSpPr/>
            <p:nvPr/>
          </p:nvSpPr>
          <p:spPr>
            <a:xfrm>
              <a:off x="7711920" y="5549760"/>
              <a:ext cx="111240" cy="1126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68"/>
            <p:cNvSpPr/>
            <p:nvPr/>
          </p:nvSpPr>
          <p:spPr>
            <a:xfrm>
              <a:off x="6254640" y="4645080"/>
              <a:ext cx="22320" cy="37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69"/>
            <p:cNvSpPr/>
            <p:nvPr/>
          </p:nvSpPr>
          <p:spPr>
            <a:xfrm>
              <a:off x="6254640" y="4017960"/>
              <a:ext cx="22320" cy="37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70"/>
            <p:cNvSpPr/>
            <p:nvPr/>
          </p:nvSpPr>
          <p:spPr>
            <a:xfrm>
              <a:off x="6254640" y="5383080"/>
              <a:ext cx="22320" cy="37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393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395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396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8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399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1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402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4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405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408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0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411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3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414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6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425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426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429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1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432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4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435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438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0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441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442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4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445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7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448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0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451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461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462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465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7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468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471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474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6" name="Text Box 93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94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95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97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98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99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102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105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98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Text Box 2"/>
          <p:cNvSpPr/>
          <p:nvPr/>
        </p:nvSpPr>
        <p:spPr>
          <a:xfrm>
            <a:off x="228600" y="1905120"/>
            <a:ext cx="8458200" cy="1202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9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490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1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492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493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496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499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502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4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505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7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508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0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511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3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1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522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523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5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526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8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529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1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532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4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535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7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538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539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1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542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545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7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548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558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559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562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565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7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568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0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571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3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94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Box 1"/>
          <p:cNvSpPr/>
          <p:nvPr/>
        </p:nvSpPr>
        <p:spPr>
          <a:xfrm>
            <a:off x="317520" y="64864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"/>
              </a:rPr>
              <a:t>Part 1:</a:t>
            </a:r>
            <a:br>
              <a:rPr sz="5400"/>
            </a:br>
            <a:br>
              <a:rPr sz="5400"/>
            </a:b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Simultaneous Equa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4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6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4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4"/>
          <p:cNvSpPr/>
          <p:nvPr/>
        </p:nvSpPr>
        <p:spPr>
          <a:xfrm>
            <a:off x="351000" y="4183200"/>
            <a:ext cx="397980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6"/>
          <p:cNvSpPr/>
          <p:nvPr/>
        </p:nvSpPr>
        <p:spPr>
          <a:xfrm>
            <a:off x="426960" y="5307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l three pla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2744640" y="3538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1"/>
          <p:cNvSpPr/>
          <p:nvPr/>
        </p:nvSpPr>
        <p:spPr>
          <a:xfrm>
            <a:off x="228600" y="3733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t is not possible fo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+ 2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– 8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to be equal to 4, 7 and 9.5 all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2"/>
          <p:cNvSpPr/>
          <p:nvPr/>
        </p:nvSpPr>
        <p:spPr>
          <a:xfrm>
            <a:off x="333720" y="422280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are inconsis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3"/>
          <p:cNvSpPr/>
          <p:nvPr/>
        </p:nvSpPr>
        <p:spPr>
          <a:xfrm>
            <a:off x="411480" y="48369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Group 14"/>
          <p:cNvGrpSpPr/>
          <p:nvPr/>
        </p:nvGrpSpPr>
        <p:grpSpPr>
          <a:xfrm>
            <a:off x="5762520" y="4397400"/>
            <a:ext cx="2164680" cy="1843920"/>
            <a:chOff x="5762520" y="4397400"/>
            <a:chExt cx="2164680" cy="1843920"/>
          </a:xfrm>
        </p:grpSpPr>
        <p:grpSp>
          <p:nvGrpSpPr>
            <p:cNvPr id="1604" name="Group 15"/>
            <p:cNvGrpSpPr/>
            <p:nvPr/>
          </p:nvGrpSpPr>
          <p:grpSpPr>
            <a:xfrm>
              <a:off x="5762520" y="4397400"/>
              <a:ext cx="1736280" cy="1183320"/>
              <a:chOff x="5762520" y="4397400"/>
              <a:chExt cx="1736280" cy="1183320"/>
            </a:xfrm>
          </p:grpSpPr>
          <p:sp>
            <p:nvSpPr>
              <p:cNvPr id="1605" name="Freeform 16"/>
              <p:cNvSpPr/>
              <p:nvPr/>
            </p:nvSpPr>
            <p:spPr>
              <a:xfrm>
                <a:off x="5770800" y="4401360"/>
                <a:ext cx="1718640" cy="1174680"/>
              </a:xfrm>
              <a:custGeom>
                <a:avLst/>
                <a:gdLst>
                  <a:gd name="textAreaLeft" fmla="*/ 0 w 1718640"/>
                  <a:gd name="textAreaRight" fmla="*/ 1719000 w 1718640"/>
                  <a:gd name="textAreaTop" fmla="*/ 0 h 1174680"/>
                  <a:gd name="textAreaBottom" fmla="*/ 1175040 h 1174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7"/>
              <p:cNvSpPr/>
              <p:nvPr/>
            </p:nvSpPr>
            <p:spPr>
              <a:xfrm>
                <a:off x="5762520" y="4397400"/>
                <a:ext cx="1736280" cy="118332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3320"/>
                  <a:gd name="textAreaBottom" fmla="*/ 1183680 h 11833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Group 18"/>
            <p:cNvGrpSpPr/>
            <p:nvPr/>
          </p:nvGrpSpPr>
          <p:grpSpPr>
            <a:xfrm>
              <a:off x="5996520" y="4692960"/>
              <a:ext cx="1736280" cy="1185840"/>
              <a:chOff x="5996520" y="4692960"/>
              <a:chExt cx="1736280" cy="1185840"/>
            </a:xfrm>
          </p:grpSpPr>
          <p:sp>
            <p:nvSpPr>
              <p:cNvPr id="1608" name="Freeform 19"/>
              <p:cNvSpPr/>
              <p:nvPr/>
            </p:nvSpPr>
            <p:spPr>
              <a:xfrm>
                <a:off x="6005520" y="4699800"/>
                <a:ext cx="1720800" cy="1172520"/>
              </a:xfrm>
              <a:custGeom>
                <a:avLst/>
                <a:gdLst>
                  <a:gd name="textAreaLeft" fmla="*/ 0 w 1720800"/>
                  <a:gd name="textAreaRight" fmla="*/ 1721160 w 1720800"/>
                  <a:gd name="textAreaTop" fmla="*/ 0 h 1172520"/>
                  <a:gd name="textAreaBottom" fmla="*/ 1172880 h 117252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20"/>
              <p:cNvSpPr/>
              <p:nvPr/>
            </p:nvSpPr>
            <p:spPr>
              <a:xfrm>
                <a:off x="5996520" y="4692960"/>
                <a:ext cx="1736280" cy="118584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5840"/>
                  <a:gd name="textAreaBottom" fmla="*/ 1186200 h 118584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Group 21"/>
            <p:cNvGrpSpPr/>
            <p:nvPr/>
          </p:nvGrpSpPr>
          <p:grpSpPr>
            <a:xfrm>
              <a:off x="6190920" y="5055480"/>
              <a:ext cx="1736280" cy="1185840"/>
              <a:chOff x="6190920" y="5055480"/>
              <a:chExt cx="1736280" cy="1185840"/>
            </a:xfrm>
          </p:grpSpPr>
          <p:sp>
            <p:nvSpPr>
              <p:cNvPr id="1611" name="Freeform 22"/>
              <p:cNvSpPr/>
              <p:nvPr/>
            </p:nvSpPr>
            <p:spPr>
              <a:xfrm>
                <a:off x="6199920" y="5061960"/>
                <a:ext cx="1718280" cy="1172520"/>
              </a:xfrm>
              <a:custGeom>
                <a:avLst/>
                <a:gdLst>
                  <a:gd name="textAreaLeft" fmla="*/ 0 w 1718280"/>
                  <a:gd name="textAreaRight" fmla="*/ 1718640 w 1718280"/>
                  <a:gd name="textAreaTop" fmla="*/ 0 h 1172520"/>
                  <a:gd name="textAreaBottom" fmla="*/ 1172880 h 117252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23"/>
              <p:cNvSpPr/>
              <p:nvPr/>
            </p:nvSpPr>
            <p:spPr>
              <a:xfrm>
                <a:off x="6190920" y="5055480"/>
                <a:ext cx="1736280" cy="1185840"/>
              </a:xfrm>
              <a:custGeom>
                <a:avLst/>
                <a:gdLst>
                  <a:gd name="textAreaLeft" fmla="*/ 0 w 1736280"/>
                  <a:gd name="textAreaRight" fmla="*/ 1736640 w 1736280"/>
                  <a:gd name="textAreaTop" fmla="*/ 0 h 1185840"/>
                  <a:gd name="textAreaBottom" fmla="*/ 1186200 h 118584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Rectangle 24"/>
          <p:cNvSpPr/>
          <p:nvPr/>
        </p:nvSpPr>
        <p:spPr>
          <a:xfrm>
            <a:off x="661680" y="6019920"/>
            <a:ext cx="7931880" cy="459720"/>
          </a:xfrm>
          <a:prstGeom prst="rect">
            <a:avLst/>
          </a:prstGeom>
          <a:solidFill>
            <a:srgbClr val="ffffff"/>
          </a:solidFill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ook for:  Same ratio of co-efficients in all 3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 Box 96"/>
          <p:cNvSpPr/>
          <p:nvPr/>
        </p:nvSpPr>
        <p:spPr>
          <a:xfrm>
            <a:off x="228600" y="1905120"/>
            <a:ext cx="8458200" cy="1202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6" name="Group 3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617" name="Freeform 4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5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619" name="Group 6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620" name="Freeform 7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Freeform 8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2" name="Group 9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623" name="Freeform 10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Freeform 11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Group 12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626" name="Freeform 13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Freeform 14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Group 15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629" name="Freeform 16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Freeform 17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1" name="Group 18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632" name="Freeform 19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Freeform 20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Group 21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635" name="Freeform 22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Freeform 23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7" name="Group 24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638" name="Freeform 25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Freeform 26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0" name="Freeform 27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28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29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30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1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32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33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34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Group 35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649" name="Group 36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650" name="Freeform 37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38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2" name="Group 39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653" name="Freeform 40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41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5" name="Group 42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656" name="Freeform 43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44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8" name="Group 45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659" name="Freeform 46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47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48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662" name="Freeform 49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50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4" name="Group 51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665" name="Group 52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666" name="Freeform 53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54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Group 55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669" name="Freeform 56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57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1" name="Group 58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672" name="Freeform 59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60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4" name="Group 61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675" name="Freeform 62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3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4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5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6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7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8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69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0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71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685" name="Group 72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686" name="Freeform 73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74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8" name="Group 75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689" name="Freeform 76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77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78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692" name="Freeform 79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80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1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695" name="Freeform 82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83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Group 84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698" name="Freeform 85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86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Text Box 87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88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89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91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92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Text Box 2"/>
          <p:cNvSpPr/>
          <p:nvPr/>
        </p:nvSpPr>
        <p:spPr>
          <a:xfrm>
            <a:off x="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714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716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717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720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723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726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729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1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732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4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735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7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746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747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9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750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2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753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5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756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8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759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1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762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763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5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766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8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769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1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772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782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783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5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786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8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1789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1792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4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1795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7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Can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94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6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7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9" dur="1" fill="hold"/>
                                  <p:tgtEl>
                                    <p:spTgt spid="1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6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11"/>
          <p:cNvSpPr/>
          <p:nvPr/>
        </p:nvSpPr>
        <p:spPr>
          <a:xfrm>
            <a:off x="4572000" y="6172200"/>
            <a:ext cx="41911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12"/>
          <p:cNvSpPr/>
          <p:nvPr/>
        </p:nvSpPr>
        <p:spPr>
          <a:xfrm>
            <a:off x="32904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15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24" name="Freeform 16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7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8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9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20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21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2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3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4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25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834" name="Group 26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835" name="Freeform 27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28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7" name="Group 29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838" name="Freeform 30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31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Group 32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841" name="Freeform 33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34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Group 35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844" name="Freeform 36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37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6" name="Group 38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847" name="Freeform 39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40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9" name="Rectangle 41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42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6"/>
          <p:cNvSpPr/>
          <p:nvPr/>
        </p:nvSpPr>
        <p:spPr>
          <a:xfrm>
            <a:off x="4495680" y="6172200"/>
            <a:ext cx="42674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58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868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869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1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872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4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875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7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878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881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4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5"/>
          <p:cNvSpPr/>
          <p:nvPr/>
        </p:nvSpPr>
        <p:spPr>
          <a:xfrm>
            <a:off x="2630520" y="32688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6"/>
          <p:cNvSpPr/>
          <p:nvPr/>
        </p:nvSpPr>
        <p:spPr>
          <a:xfrm>
            <a:off x="4419720" y="6172200"/>
            <a:ext cx="434340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7"/>
          <p:cNvSpPr/>
          <p:nvPr/>
        </p:nvSpPr>
        <p:spPr>
          <a:xfrm>
            <a:off x="17676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1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1892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1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1902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1903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5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1906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8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1909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1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1912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4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1915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7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35"/>
          <p:cNvSpPr/>
          <p:nvPr/>
        </p:nvSpPr>
        <p:spPr>
          <a:xfrm>
            <a:off x="4191120" y="40384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Oval 36"/>
          <p:cNvSpPr/>
          <p:nvPr/>
        </p:nvSpPr>
        <p:spPr>
          <a:xfrm>
            <a:off x="6172200" y="3276720"/>
            <a:ext cx="2438280" cy="1676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37"/>
          <p:cNvSpPr/>
          <p:nvPr/>
        </p:nvSpPr>
        <p:spPr>
          <a:xfrm>
            <a:off x="4419720" y="5638680"/>
            <a:ext cx="4489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 Triangular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38"/>
          <p:cNvSpPr/>
          <p:nvPr/>
        </p:nvSpPr>
        <p:spPr>
          <a:xfrm>
            <a:off x="3962520" y="1569600"/>
            <a:ext cx="5181480" cy="195336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metrically: “Each plane is parallel to the line of intersection of the other 2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CHECK: No pairs of planes are parallel. We know this because none of the original equations share the same ratio of coefficients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ESSON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vision of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uLake pg 175 – Q1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phing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2 simultaneous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que solution – lines intersect at a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solution – lines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inite solutions – lin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295280" y="1295280"/>
            <a:ext cx="6477120" cy="159588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2 Simultaneou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first 2 pages of handout booklet (pg. 71 &amp; 7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Text Box 2"/>
          <p:cNvSpPr/>
          <p:nvPr/>
        </p:nvSpPr>
        <p:spPr>
          <a:xfrm>
            <a:off x="22860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1925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6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1927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1928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0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1931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1934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6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1937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9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1940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2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1943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5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1946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48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1957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1958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0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1961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3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1964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6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1967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9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1970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2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1973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1974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6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1977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9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1980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2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1983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1993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1994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6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1997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9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000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003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5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006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8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92"/>
          <p:cNvSpPr/>
          <p:nvPr/>
        </p:nvSpPr>
        <p:spPr>
          <a:xfrm>
            <a:off x="563868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96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6"/>
          <p:cNvSpPr/>
          <p:nvPr/>
        </p:nvSpPr>
        <p:spPr>
          <a:xfrm>
            <a:off x="4572000" y="6172200"/>
            <a:ext cx="419112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3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2034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044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045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7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048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0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051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054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6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057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36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37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3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6"/>
          <p:cNvSpPr/>
          <p:nvPr/>
        </p:nvSpPr>
        <p:spPr>
          <a:xfrm>
            <a:off x="4495680" y="6172200"/>
            <a:ext cx="42674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7"/>
          <p:cNvSpPr/>
          <p:nvPr/>
        </p:nvSpPr>
        <p:spPr>
          <a:xfrm>
            <a:off x="25308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Group 8"/>
          <p:cNvGrpSpPr/>
          <p:nvPr/>
        </p:nvGrpSpPr>
        <p:grpSpPr>
          <a:xfrm>
            <a:off x="6549480" y="3504240"/>
            <a:ext cx="1788480" cy="1250640"/>
            <a:chOff x="6549480" y="3504240"/>
            <a:chExt cx="1788480" cy="1250640"/>
          </a:xfrm>
        </p:grpSpPr>
        <p:sp>
          <p:nvSpPr>
            <p:cNvPr id="2068" name="Freeform 9"/>
            <p:cNvSpPr/>
            <p:nvPr/>
          </p:nvSpPr>
          <p:spPr>
            <a:xfrm rot="21052200">
              <a:off x="6803640" y="360252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10"/>
            <p:cNvSpPr/>
            <p:nvPr/>
          </p:nvSpPr>
          <p:spPr>
            <a:xfrm rot="21052200">
              <a:off x="6924960" y="358128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11"/>
            <p:cNvSpPr/>
            <p:nvPr/>
          </p:nvSpPr>
          <p:spPr>
            <a:xfrm rot="21052200">
              <a:off x="6967800" y="373392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12"/>
            <p:cNvSpPr/>
            <p:nvPr/>
          </p:nvSpPr>
          <p:spPr>
            <a:xfrm rot="21052200">
              <a:off x="7304400" y="417420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13"/>
            <p:cNvSpPr/>
            <p:nvPr/>
          </p:nvSpPr>
          <p:spPr>
            <a:xfrm rot="21052200">
              <a:off x="6667560" y="413928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14"/>
            <p:cNvSpPr/>
            <p:nvPr/>
          </p:nvSpPr>
          <p:spPr>
            <a:xfrm rot="21052200">
              <a:off x="6610680" y="459648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15"/>
            <p:cNvSpPr/>
            <p:nvPr/>
          </p:nvSpPr>
          <p:spPr>
            <a:xfrm rot="21052200">
              <a:off x="6553080" y="455904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16"/>
            <p:cNvSpPr/>
            <p:nvPr/>
          </p:nvSpPr>
          <p:spPr>
            <a:xfrm rot="21052200">
              <a:off x="6690960" y="439272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7"/>
            <p:cNvSpPr/>
            <p:nvPr/>
          </p:nvSpPr>
          <p:spPr>
            <a:xfrm rot="21052200">
              <a:off x="7288200" y="412884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078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079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082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4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085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088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0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091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3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36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37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Rectangle 38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6"/>
          <p:cNvSpPr/>
          <p:nvPr/>
        </p:nvSpPr>
        <p:spPr>
          <a:xfrm>
            <a:off x="4419720" y="6172200"/>
            <a:ext cx="434340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7"/>
          <p:cNvSpPr/>
          <p:nvPr/>
        </p:nvSpPr>
        <p:spPr>
          <a:xfrm>
            <a:off x="176760" y="6172200"/>
            <a:ext cx="850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 equations a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  Are any of the planes parall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Group 8"/>
          <p:cNvGrpSpPr/>
          <p:nvPr/>
        </p:nvGrpSpPr>
        <p:grpSpPr>
          <a:xfrm>
            <a:off x="6778080" y="3428280"/>
            <a:ext cx="1788480" cy="1250640"/>
            <a:chOff x="6778080" y="3428280"/>
            <a:chExt cx="1788480" cy="1250640"/>
          </a:xfrm>
        </p:grpSpPr>
        <p:sp>
          <p:nvSpPr>
            <p:cNvPr id="2102" name="Freeform 9"/>
            <p:cNvSpPr/>
            <p:nvPr/>
          </p:nvSpPr>
          <p:spPr>
            <a:xfrm rot="21052200">
              <a:off x="7032240" y="3526560"/>
              <a:ext cx="925920" cy="466560"/>
            </a:xfrm>
            <a:custGeom>
              <a:avLst/>
              <a:gdLst>
                <a:gd name="textAreaLeft" fmla="*/ 0 w 925920"/>
                <a:gd name="textAreaRight" fmla="*/ 926280 w 92592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0"/>
            <p:cNvSpPr/>
            <p:nvPr/>
          </p:nvSpPr>
          <p:spPr>
            <a:xfrm rot="21052200">
              <a:off x="7153560" y="3505320"/>
              <a:ext cx="1006560" cy="4611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61160"/>
                <a:gd name="textAreaBottom" fmla="*/ 461520 h 4611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1"/>
            <p:cNvSpPr/>
            <p:nvPr/>
          </p:nvSpPr>
          <p:spPr>
            <a:xfrm rot="21052200">
              <a:off x="7196400" y="3657960"/>
              <a:ext cx="1170360" cy="72288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722880"/>
                <a:gd name="textAreaBottom" fmla="*/ 723240 h 72288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2"/>
            <p:cNvSpPr/>
            <p:nvPr/>
          </p:nvSpPr>
          <p:spPr>
            <a:xfrm rot="21052200">
              <a:off x="7533000" y="4098240"/>
              <a:ext cx="963720" cy="3801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13"/>
            <p:cNvSpPr/>
            <p:nvPr/>
          </p:nvSpPr>
          <p:spPr>
            <a:xfrm rot="21052200">
              <a:off x="6896160" y="4063320"/>
              <a:ext cx="508680" cy="433080"/>
            </a:xfrm>
            <a:custGeom>
              <a:avLst/>
              <a:gdLst>
                <a:gd name="textAreaLeft" fmla="*/ 0 w 508680"/>
                <a:gd name="textAreaRight" fmla="*/ 509040 w 5086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14"/>
            <p:cNvSpPr/>
            <p:nvPr/>
          </p:nvSpPr>
          <p:spPr>
            <a:xfrm rot="21052200">
              <a:off x="6839280" y="4520520"/>
              <a:ext cx="397080" cy="1274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15"/>
            <p:cNvSpPr/>
            <p:nvPr/>
          </p:nvSpPr>
          <p:spPr>
            <a:xfrm rot="21052200">
              <a:off x="6781680" y="4483080"/>
              <a:ext cx="189360" cy="6228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16"/>
            <p:cNvSpPr/>
            <p:nvPr/>
          </p:nvSpPr>
          <p:spPr>
            <a:xfrm rot="21052200">
              <a:off x="6919560" y="4316760"/>
              <a:ext cx="615960" cy="1663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17"/>
            <p:cNvSpPr/>
            <p:nvPr/>
          </p:nvSpPr>
          <p:spPr>
            <a:xfrm rot="21052200">
              <a:off x="7516800" y="4052880"/>
              <a:ext cx="1033200" cy="28656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Group 18"/>
          <p:cNvGrpSpPr/>
          <p:nvPr/>
        </p:nvGrpSpPr>
        <p:grpSpPr>
          <a:xfrm>
            <a:off x="6629400" y="5105520"/>
            <a:ext cx="1828080" cy="990000"/>
            <a:chOff x="6629400" y="5105520"/>
            <a:chExt cx="1828080" cy="990000"/>
          </a:xfrm>
        </p:grpSpPr>
        <p:grpSp>
          <p:nvGrpSpPr>
            <p:cNvPr id="2112" name="Group 19"/>
            <p:cNvGrpSpPr/>
            <p:nvPr/>
          </p:nvGrpSpPr>
          <p:grpSpPr>
            <a:xfrm>
              <a:off x="6629400" y="5408640"/>
              <a:ext cx="1224360" cy="430200"/>
              <a:chOff x="6629400" y="5408640"/>
              <a:chExt cx="1224360" cy="430200"/>
            </a:xfrm>
          </p:grpSpPr>
          <p:sp>
            <p:nvSpPr>
              <p:cNvPr id="2113" name="Freeform 20"/>
              <p:cNvSpPr/>
              <p:nvPr/>
            </p:nvSpPr>
            <p:spPr>
              <a:xfrm>
                <a:off x="6636600" y="5411160"/>
                <a:ext cx="1211760" cy="42480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21"/>
              <p:cNvSpPr/>
              <p:nvPr/>
            </p:nvSpPr>
            <p:spPr>
              <a:xfrm>
                <a:off x="6629400" y="540864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36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5" name="Group 22"/>
            <p:cNvGrpSpPr/>
            <p:nvPr/>
          </p:nvGrpSpPr>
          <p:grpSpPr>
            <a:xfrm>
              <a:off x="6980400" y="5664240"/>
              <a:ext cx="1224000" cy="431280"/>
              <a:chOff x="6980400" y="5664240"/>
              <a:chExt cx="1224000" cy="431280"/>
            </a:xfrm>
          </p:grpSpPr>
          <p:sp>
            <p:nvSpPr>
              <p:cNvPr id="2116" name="Freeform 23"/>
              <p:cNvSpPr/>
              <p:nvPr/>
            </p:nvSpPr>
            <p:spPr>
              <a:xfrm>
                <a:off x="6985440" y="5667840"/>
                <a:ext cx="1211760" cy="4233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24"/>
              <p:cNvSpPr/>
              <p:nvPr/>
            </p:nvSpPr>
            <p:spPr>
              <a:xfrm>
                <a:off x="6980400" y="5664240"/>
                <a:ext cx="1224000" cy="43128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1280"/>
                  <a:gd name="textAreaBottom" fmla="*/ 431640 h 43128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25"/>
            <p:cNvGrpSpPr/>
            <p:nvPr/>
          </p:nvGrpSpPr>
          <p:grpSpPr>
            <a:xfrm>
              <a:off x="6702120" y="5275440"/>
              <a:ext cx="1689840" cy="660960"/>
              <a:chOff x="6702120" y="5275440"/>
              <a:chExt cx="1689840" cy="660960"/>
            </a:xfrm>
          </p:grpSpPr>
          <p:sp>
            <p:nvSpPr>
              <p:cNvPr id="2119" name="Freeform 26"/>
              <p:cNvSpPr/>
              <p:nvPr/>
            </p:nvSpPr>
            <p:spPr>
              <a:xfrm>
                <a:off x="6709320" y="5277960"/>
                <a:ext cx="1675800" cy="6555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655560"/>
                  <a:gd name="textAreaBottom" fmla="*/ 655920 h 6555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27"/>
              <p:cNvSpPr/>
              <p:nvPr/>
            </p:nvSpPr>
            <p:spPr>
              <a:xfrm>
                <a:off x="6702120" y="5275440"/>
                <a:ext cx="1689840" cy="660960"/>
              </a:xfrm>
              <a:custGeom>
                <a:avLst/>
                <a:gdLst>
                  <a:gd name="textAreaLeft" fmla="*/ 0 w 1689840"/>
                  <a:gd name="textAreaRight" fmla="*/ 1690200 w 1689840"/>
                  <a:gd name="textAreaTop" fmla="*/ 0 h 660960"/>
                  <a:gd name="textAreaBottom" fmla="*/ 661320 h 66096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1" name="Group 28"/>
            <p:cNvGrpSpPr/>
            <p:nvPr/>
          </p:nvGrpSpPr>
          <p:grpSpPr>
            <a:xfrm>
              <a:off x="6884280" y="5105520"/>
              <a:ext cx="1224360" cy="430200"/>
              <a:chOff x="6884280" y="5105520"/>
              <a:chExt cx="1224360" cy="430200"/>
            </a:xfrm>
          </p:grpSpPr>
          <p:sp>
            <p:nvSpPr>
              <p:cNvPr id="2122" name="Freeform 29"/>
              <p:cNvSpPr/>
              <p:nvPr/>
            </p:nvSpPr>
            <p:spPr>
              <a:xfrm>
                <a:off x="6891480" y="5108040"/>
                <a:ext cx="1209960" cy="425160"/>
              </a:xfrm>
              <a:custGeom>
                <a:avLst/>
                <a:gdLst>
                  <a:gd name="textAreaLeft" fmla="*/ 0 w 1209960"/>
                  <a:gd name="textAreaRight" fmla="*/ 1210320 w 12099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30"/>
              <p:cNvSpPr/>
              <p:nvPr/>
            </p:nvSpPr>
            <p:spPr>
              <a:xfrm>
                <a:off x="6884280" y="5105520"/>
                <a:ext cx="1224360" cy="430200"/>
              </a:xfrm>
              <a:custGeom>
                <a:avLst/>
                <a:gdLst>
                  <a:gd name="textAreaLeft" fmla="*/ 0 w 1224360"/>
                  <a:gd name="textAreaRight" fmla="*/ 1224720 w 12243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4" name="Group 31"/>
            <p:cNvGrpSpPr/>
            <p:nvPr/>
          </p:nvGrpSpPr>
          <p:grpSpPr>
            <a:xfrm>
              <a:off x="7233480" y="5366160"/>
              <a:ext cx="1224000" cy="430200"/>
              <a:chOff x="7233480" y="5366160"/>
              <a:chExt cx="1224000" cy="430200"/>
            </a:xfrm>
          </p:grpSpPr>
          <p:sp>
            <p:nvSpPr>
              <p:cNvPr id="2125" name="Freeform 32"/>
              <p:cNvSpPr/>
              <p:nvPr/>
            </p:nvSpPr>
            <p:spPr>
              <a:xfrm>
                <a:off x="7240680" y="5368320"/>
                <a:ext cx="1211760" cy="425160"/>
              </a:xfrm>
              <a:custGeom>
                <a:avLst/>
                <a:gdLst>
                  <a:gd name="textAreaLeft" fmla="*/ 0 w 1211760"/>
                  <a:gd name="textAreaRight" fmla="*/ 1212120 w 12117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33"/>
              <p:cNvSpPr/>
              <p:nvPr/>
            </p:nvSpPr>
            <p:spPr>
              <a:xfrm>
                <a:off x="7233480" y="5366160"/>
                <a:ext cx="1224000" cy="430200"/>
              </a:xfrm>
              <a:custGeom>
                <a:avLst/>
                <a:gdLst>
                  <a:gd name="textAreaLeft" fmla="*/ 0 w 1224000"/>
                  <a:gd name="textAreaRight" fmla="*/ 1224360 w 122400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7" name="Rectangle 34"/>
          <p:cNvSpPr/>
          <p:nvPr/>
        </p:nvSpPr>
        <p:spPr>
          <a:xfrm>
            <a:off x="7165440" y="472428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35"/>
          <p:cNvSpPr/>
          <p:nvPr/>
        </p:nvSpPr>
        <p:spPr>
          <a:xfrm>
            <a:off x="4343400" y="4267080"/>
            <a:ext cx="2286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sum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Oval 36"/>
          <p:cNvSpPr/>
          <p:nvPr/>
        </p:nvSpPr>
        <p:spPr>
          <a:xfrm>
            <a:off x="6477120" y="4800600"/>
            <a:ext cx="2438280" cy="1676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38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39"/>
          <p:cNvSpPr/>
          <p:nvPr/>
        </p:nvSpPr>
        <p:spPr>
          <a:xfrm>
            <a:off x="2736720" y="3031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40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41"/>
          <p:cNvSpPr/>
          <p:nvPr/>
        </p:nvSpPr>
        <p:spPr>
          <a:xfrm>
            <a:off x="4267080" y="2102400"/>
            <a:ext cx="4876920" cy="192312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metrically: “2 planes are parall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hird cuts them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Equations (1) and (2)  represent 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2 parallel planes because both have same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RATIO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of coefficients { 1:5:1 }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Text Box 2"/>
          <p:cNvSpPr/>
          <p:nvPr/>
        </p:nvSpPr>
        <p:spPr>
          <a:xfrm>
            <a:off x="228600" y="304812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137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8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139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140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143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5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146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149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1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152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4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155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7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158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0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8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169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170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2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173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5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176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8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179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1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182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4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185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186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8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189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1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192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4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195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205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206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8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209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1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212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4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215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7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218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0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Text Box 2"/>
          <p:cNvSpPr/>
          <p:nvPr/>
        </p:nvSpPr>
        <p:spPr>
          <a:xfrm>
            <a:off x="228600" y="484020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234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5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236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237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9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240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243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5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246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8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249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1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252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4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255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7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266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267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9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270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2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273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5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276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8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279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1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282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283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5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286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8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289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1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292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1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302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303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5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306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8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309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1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312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4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315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7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Box 99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4"/>
          <p:cNvSpPr/>
          <p:nvPr/>
        </p:nvSpPr>
        <p:spPr>
          <a:xfrm>
            <a:off x="2717640" y="3157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5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6"/>
          <p:cNvSpPr/>
          <p:nvPr/>
        </p:nvSpPr>
        <p:spPr>
          <a:xfrm>
            <a:off x="449640" y="16714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Find a special feature for this set of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2" dur="1" fill="hold"/>
                                  <p:tgtEl>
                                    <p:spTgt spid="2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Rectangle 2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2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5"/>
          <p:cNvSpPr/>
          <p:nvPr/>
        </p:nvSpPr>
        <p:spPr>
          <a:xfrm>
            <a:off x="2717640" y="31572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6"/>
          <p:cNvSpPr/>
          <p:nvPr/>
        </p:nvSpPr>
        <p:spPr>
          <a:xfrm>
            <a:off x="411840" y="-63360"/>
            <a:ext cx="84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es this set of simultaneous equation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7"/>
          <p:cNvSpPr/>
          <p:nvPr/>
        </p:nvSpPr>
        <p:spPr>
          <a:xfrm>
            <a:off x="5586120" y="152280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this examp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10"/>
          <p:cNvSpPr/>
          <p:nvPr/>
        </p:nvSpPr>
        <p:spPr>
          <a:xfrm>
            <a:off x="304920" y="5029200"/>
            <a:ext cx="56386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11"/>
          <p:cNvSpPr/>
          <p:nvPr/>
        </p:nvSpPr>
        <p:spPr>
          <a:xfrm>
            <a:off x="228600" y="50292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e say the equation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Non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13"/>
          <p:cNvSpPr/>
          <p:nvPr/>
        </p:nvSpPr>
        <p:spPr>
          <a:xfrm>
            <a:off x="356040" y="56214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Geometr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14"/>
          <p:cNvSpPr/>
          <p:nvPr/>
        </p:nvSpPr>
        <p:spPr>
          <a:xfrm>
            <a:off x="237240" y="601884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three planes meet along a singl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3" name="Group 15"/>
          <p:cNvGrpSpPr/>
          <p:nvPr/>
        </p:nvGrpSpPr>
        <p:grpSpPr>
          <a:xfrm>
            <a:off x="6095880" y="4952880"/>
            <a:ext cx="2537280" cy="1561320"/>
            <a:chOff x="6095880" y="4952880"/>
            <a:chExt cx="2537280" cy="1561320"/>
          </a:xfrm>
        </p:grpSpPr>
        <p:grpSp>
          <p:nvGrpSpPr>
            <p:cNvPr id="2344" name="Group 16"/>
            <p:cNvGrpSpPr/>
            <p:nvPr/>
          </p:nvGrpSpPr>
          <p:grpSpPr>
            <a:xfrm>
              <a:off x="6095880" y="5272560"/>
              <a:ext cx="1994400" cy="546840"/>
              <a:chOff x="6095880" y="5272560"/>
              <a:chExt cx="1994400" cy="546840"/>
            </a:xfrm>
          </p:grpSpPr>
          <p:sp>
            <p:nvSpPr>
              <p:cNvPr id="2345" name="Freeform 17"/>
              <p:cNvSpPr/>
              <p:nvPr/>
            </p:nvSpPr>
            <p:spPr>
              <a:xfrm>
                <a:off x="6111720" y="5277240"/>
                <a:ext cx="1962000" cy="537480"/>
              </a:xfrm>
              <a:custGeom>
                <a:avLst/>
                <a:gdLst>
                  <a:gd name="textAreaLeft" fmla="*/ 0 w 1962000"/>
                  <a:gd name="textAreaRight" fmla="*/ 1962360 w 196200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8"/>
              <p:cNvSpPr/>
              <p:nvPr/>
            </p:nvSpPr>
            <p:spPr>
              <a:xfrm>
                <a:off x="6095880" y="5272560"/>
                <a:ext cx="1994400" cy="546840"/>
              </a:xfrm>
              <a:custGeom>
                <a:avLst/>
                <a:gdLst>
                  <a:gd name="textAreaLeft" fmla="*/ 0 w 1994400"/>
                  <a:gd name="textAreaRight" fmla="*/ 1994760 w 19944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7" name="Group 19"/>
            <p:cNvGrpSpPr/>
            <p:nvPr/>
          </p:nvGrpSpPr>
          <p:grpSpPr>
            <a:xfrm>
              <a:off x="6247440" y="5571720"/>
              <a:ext cx="1830960" cy="880920"/>
              <a:chOff x="6247440" y="5571720"/>
              <a:chExt cx="1830960" cy="880920"/>
            </a:xfrm>
          </p:grpSpPr>
          <p:sp>
            <p:nvSpPr>
              <p:cNvPr id="2348" name="Freeform 20"/>
              <p:cNvSpPr/>
              <p:nvPr/>
            </p:nvSpPr>
            <p:spPr>
              <a:xfrm>
                <a:off x="6256800" y="5578200"/>
                <a:ext cx="1812600" cy="86724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867240"/>
                  <a:gd name="textAreaBottom" fmla="*/ 867600 h 86724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21"/>
              <p:cNvSpPr/>
              <p:nvPr/>
            </p:nvSpPr>
            <p:spPr>
              <a:xfrm>
                <a:off x="6247440" y="5571720"/>
                <a:ext cx="1830960" cy="880920"/>
              </a:xfrm>
              <a:custGeom>
                <a:avLst/>
                <a:gdLst>
                  <a:gd name="textAreaLeft" fmla="*/ 0 w 1830960"/>
                  <a:gd name="textAreaRight" fmla="*/ 1831320 w 1830960"/>
                  <a:gd name="textAreaTop" fmla="*/ 0 h 880920"/>
                  <a:gd name="textAreaBottom" fmla="*/ 880920 h 88092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0" name="Group 22"/>
            <p:cNvGrpSpPr/>
            <p:nvPr/>
          </p:nvGrpSpPr>
          <p:grpSpPr>
            <a:xfrm>
              <a:off x="6284520" y="5007960"/>
              <a:ext cx="2217600" cy="1506240"/>
              <a:chOff x="6284520" y="5007960"/>
              <a:chExt cx="2217600" cy="1506240"/>
            </a:xfrm>
          </p:grpSpPr>
          <p:sp>
            <p:nvSpPr>
              <p:cNvPr id="2351" name="Freeform 23"/>
              <p:cNvSpPr/>
              <p:nvPr/>
            </p:nvSpPr>
            <p:spPr>
              <a:xfrm>
                <a:off x="6291000" y="5014440"/>
                <a:ext cx="2201400" cy="1494720"/>
              </a:xfrm>
              <a:custGeom>
                <a:avLst/>
                <a:gdLst>
                  <a:gd name="textAreaLeft" fmla="*/ 0 w 2201400"/>
                  <a:gd name="textAreaRight" fmla="*/ 2201760 w 2201400"/>
                  <a:gd name="textAreaTop" fmla="*/ 0 h 1494720"/>
                  <a:gd name="textAreaBottom" fmla="*/ 1495080 h 149472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Freeform 24"/>
              <p:cNvSpPr/>
              <p:nvPr/>
            </p:nvSpPr>
            <p:spPr>
              <a:xfrm>
                <a:off x="6284520" y="5007960"/>
                <a:ext cx="2217600" cy="1506240"/>
              </a:xfrm>
              <a:custGeom>
                <a:avLst/>
                <a:gdLst>
                  <a:gd name="textAreaLeft" fmla="*/ 0 w 2217600"/>
                  <a:gd name="textAreaRight" fmla="*/ 2217960 w 2217600"/>
                  <a:gd name="textAreaTop" fmla="*/ 0 h 1506240"/>
                  <a:gd name="textAreaBottom" fmla="*/ 1506600 h 150624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3" name="Group 25"/>
            <p:cNvGrpSpPr/>
            <p:nvPr/>
          </p:nvGrpSpPr>
          <p:grpSpPr>
            <a:xfrm>
              <a:off x="6627600" y="4952880"/>
              <a:ext cx="1833120" cy="878040"/>
              <a:chOff x="6627600" y="4952880"/>
              <a:chExt cx="1833120" cy="878040"/>
            </a:xfrm>
          </p:grpSpPr>
          <p:sp>
            <p:nvSpPr>
              <p:cNvPr id="2354" name="Freeform 26"/>
              <p:cNvSpPr/>
              <p:nvPr/>
            </p:nvSpPr>
            <p:spPr>
              <a:xfrm>
                <a:off x="6638760" y="4959360"/>
                <a:ext cx="1810080" cy="866520"/>
              </a:xfrm>
              <a:custGeom>
                <a:avLst/>
                <a:gdLst>
                  <a:gd name="textAreaLeft" fmla="*/ 0 w 1810080"/>
                  <a:gd name="textAreaRight" fmla="*/ 1810440 w 1810080"/>
                  <a:gd name="textAreaTop" fmla="*/ 0 h 866520"/>
                  <a:gd name="textAreaBottom" fmla="*/ 866880 h 86652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27"/>
              <p:cNvSpPr/>
              <p:nvPr/>
            </p:nvSpPr>
            <p:spPr>
              <a:xfrm>
                <a:off x="6627600" y="4952880"/>
                <a:ext cx="1833120" cy="878040"/>
              </a:xfrm>
              <a:custGeom>
                <a:avLst/>
                <a:gdLst>
                  <a:gd name="textAreaLeft" fmla="*/ 0 w 1833120"/>
                  <a:gd name="textAreaRight" fmla="*/ 1833480 w 1833120"/>
                  <a:gd name="textAreaTop" fmla="*/ 0 h 878040"/>
                  <a:gd name="textAreaBottom" fmla="*/ 878400 h 87804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6" name="Group 28"/>
            <p:cNvGrpSpPr/>
            <p:nvPr/>
          </p:nvGrpSpPr>
          <p:grpSpPr>
            <a:xfrm>
              <a:off x="6640920" y="5576400"/>
              <a:ext cx="1992240" cy="546840"/>
              <a:chOff x="6640920" y="5576400"/>
              <a:chExt cx="1992240" cy="546840"/>
            </a:xfrm>
          </p:grpSpPr>
          <p:sp>
            <p:nvSpPr>
              <p:cNvPr id="2357" name="Freeform 29"/>
              <p:cNvSpPr/>
              <p:nvPr/>
            </p:nvSpPr>
            <p:spPr>
              <a:xfrm>
                <a:off x="6654960" y="5581080"/>
                <a:ext cx="1964520" cy="537840"/>
              </a:xfrm>
              <a:custGeom>
                <a:avLst/>
                <a:gdLst>
                  <a:gd name="textAreaLeft" fmla="*/ 0 w 1964520"/>
                  <a:gd name="textAreaRight" fmla="*/ 1964880 w 1964520"/>
                  <a:gd name="textAreaTop" fmla="*/ 0 h 537840"/>
                  <a:gd name="textAreaBottom" fmla="*/ 537840 h 53784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Freeform 30"/>
              <p:cNvSpPr/>
              <p:nvPr/>
            </p:nvSpPr>
            <p:spPr>
              <a:xfrm>
                <a:off x="6640920" y="5576400"/>
                <a:ext cx="1992240" cy="5468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9" name="Text Box 32"/>
          <p:cNvSpPr/>
          <p:nvPr/>
        </p:nvSpPr>
        <p:spPr>
          <a:xfrm>
            <a:off x="5562720" y="3581280"/>
            <a:ext cx="35812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Text Box 2"/>
          <p:cNvSpPr/>
          <p:nvPr/>
        </p:nvSpPr>
        <p:spPr>
          <a:xfrm>
            <a:off x="228600" y="4840200"/>
            <a:ext cx="8686800" cy="203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2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363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4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365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366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8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369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1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372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4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375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7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378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0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381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3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384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86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4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395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396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8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399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1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402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405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408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0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411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412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4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415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7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418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20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421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0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431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432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4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435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7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438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0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441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3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444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6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Text Box 92"/>
          <p:cNvSpPr/>
          <p:nvPr/>
        </p:nvSpPr>
        <p:spPr>
          <a:xfrm>
            <a:off x="571500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Text Box 96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Text Box 97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Text Box 98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 Box 99"/>
          <p:cNvSpPr/>
          <p:nvPr/>
        </p:nvSpPr>
        <p:spPr>
          <a:xfrm>
            <a:off x="228600" y="304920"/>
            <a:ext cx="8381880" cy="1818000"/>
          </a:xfrm>
          <a:prstGeom prst="rect">
            <a:avLst/>
          </a:prstGeom>
          <a:solidFill>
            <a:srgbClr val="ffffff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ld version: pg. 352 – Ex. 21.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r   New version: pg. 195 - Ex. 10.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TextBox 100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ometric Representation of 3D Sim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9" name="Group 4"/>
          <p:cNvGrpSpPr/>
          <p:nvPr/>
        </p:nvGrpSpPr>
        <p:grpSpPr>
          <a:xfrm>
            <a:off x="4343400" y="990720"/>
            <a:ext cx="1143000" cy="990360"/>
            <a:chOff x="4343400" y="990720"/>
            <a:chExt cx="1143000" cy="990360"/>
          </a:xfrm>
        </p:grpSpPr>
        <p:sp>
          <p:nvSpPr>
            <p:cNvPr id="2460" name="Freeform 5"/>
            <p:cNvSpPr/>
            <p:nvPr/>
          </p:nvSpPr>
          <p:spPr>
            <a:xfrm>
              <a:off x="4505400" y="1709280"/>
              <a:ext cx="249480" cy="228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03" h="877">
                  <a:moveTo>
                    <a:pt x="803" y="27"/>
                  </a:moveTo>
                  <a:lnTo>
                    <a:pt x="772" y="0"/>
                  </a:lnTo>
                  <a:lnTo>
                    <a:pt x="0" y="850"/>
                  </a:lnTo>
                  <a:lnTo>
                    <a:pt x="29" y="877"/>
                  </a:lnTo>
                  <a:lnTo>
                    <a:pt x="80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1" name="Group 6"/>
            <p:cNvGrpSpPr/>
            <p:nvPr/>
          </p:nvGrpSpPr>
          <p:grpSpPr>
            <a:xfrm>
              <a:off x="4343400" y="990720"/>
              <a:ext cx="1143000" cy="990360"/>
              <a:chOff x="4343400" y="990720"/>
              <a:chExt cx="1143000" cy="990360"/>
            </a:xfrm>
          </p:grpSpPr>
          <p:grpSp>
            <p:nvGrpSpPr>
              <p:cNvPr id="2462" name="Group 7"/>
              <p:cNvGrpSpPr/>
              <p:nvPr/>
            </p:nvGrpSpPr>
            <p:grpSpPr>
              <a:xfrm>
                <a:off x="4572360" y="1433160"/>
                <a:ext cx="914040" cy="312120"/>
                <a:chOff x="4572360" y="1433160"/>
                <a:chExt cx="914040" cy="312120"/>
              </a:xfrm>
            </p:grpSpPr>
            <p:sp>
              <p:nvSpPr>
                <p:cNvPr id="2463" name="Freeform 8"/>
                <p:cNvSpPr/>
                <p:nvPr/>
              </p:nvSpPr>
              <p:spPr>
                <a:xfrm>
                  <a:off x="4576320" y="1435680"/>
                  <a:ext cx="905760" cy="307080"/>
                </a:xfrm>
                <a:custGeom>
                  <a:avLst/>
                  <a:gdLst>
                    <a:gd name="textAreaLeft" fmla="*/ 0 w 905760"/>
                    <a:gd name="textAreaRight" fmla="*/ 906120 w 90576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8" h="1064">
                      <a:moveTo>
                        <a:pt x="1930" y="0"/>
                      </a:moveTo>
                      <a:lnTo>
                        <a:pt x="2608" y="736"/>
                      </a:lnTo>
                      <a:lnTo>
                        <a:pt x="680" y="1064"/>
                      </a:lnTo>
                      <a:lnTo>
                        <a:pt x="0" y="328"/>
                      </a:lnTo>
                      <a:lnTo>
                        <a:pt x="1930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Freeform 9"/>
                <p:cNvSpPr/>
                <p:nvPr/>
              </p:nvSpPr>
              <p:spPr>
                <a:xfrm>
                  <a:off x="4572360" y="1433160"/>
                  <a:ext cx="914040" cy="312120"/>
                </a:xfrm>
                <a:custGeom>
                  <a:avLst/>
                  <a:gdLst>
                    <a:gd name="textAreaLeft" fmla="*/ 0 w 914040"/>
                    <a:gd name="textAreaRight" fmla="*/ 914400 w 914040"/>
                    <a:gd name="textAreaTop" fmla="*/ 0 h 312120"/>
                    <a:gd name="textAreaBottom" fmla="*/ 312480 h 312120"/>
                  </a:gdLst>
                  <a:ahLst/>
                  <a:rect l="textAreaLeft" t="textAreaTop" r="textAreaRight" b="textAreaBottom"/>
                  <a:pathLst>
                    <a:path w="2634" h="1079">
                      <a:moveTo>
                        <a:pt x="2616" y="749"/>
                      </a:moveTo>
                      <a:lnTo>
                        <a:pt x="2620" y="743"/>
                      </a:lnTo>
                      <a:lnTo>
                        <a:pt x="2619" y="736"/>
                      </a:lnTo>
                      <a:lnTo>
                        <a:pt x="691" y="1064"/>
                      </a:lnTo>
                      <a:lnTo>
                        <a:pt x="692" y="1071"/>
                      </a:lnTo>
                      <a:lnTo>
                        <a:pt x="696" y="1066"/>
                      </a:lnTo>
                      <a:lnTo>
                        <a:pt x="17" y="331"/>
                      </a:lnTo>
                      <a:lnTo>
                        <a:pt x="12" y="335"/>
                      </a:lnTo>
                      <a:lnTo>
                        <a:pt x="13" y="342"/>
                      </a:lnTo>
                      <a:lnTo>
                        <a:pt x="1943" y="14"/>
                      </a:lnTo>
                      <a:lnTo>
                        <a:pt x="1942" y="7"/>
                      </a:lnTo>
                      <a:lnTo>
                        <a:pt x="1937" y="13"/>
                      </a:lnTo>
                      <a:lnTo>
                        <a:pt x="2616" y="749"/>
                      </a:lnTo>
                      <a:close/>
                      <a:moveTo>
                        <a:pt x="1946" y="3"/>
                      </a:moveTo>
                      <a:lnTo>
                        <a:pt x="1944" y="0"/>
                      </a:lnTo>
                      <a:lnTo>
                        <a:pt x="1941" y="0"/>
                      </a:lnTo>
                      <a:lnTo>
                        <a:pt x="11" y="328"/>
                      </a:lnTo>
                      <a:lnTo>
                        <a:pt x="0" y="331"/>
                      </a:lnTo>
                      <a:lnTo>
                        <a:pt x="9" y="341"/>
                      </a:lnTo>
                      <a:lnTo>
                        <a:pt x="689" y="1076"/>
                      </a:lnTo>
                      <a:lnTo>
                        <a:pt x="690" y="1079"/>
                      </a:lnTo>
                      <a:lnTo>
                        <a:pt x="693" y="1078"/>
                      </a:lnTo>
                      <a:lnTo>
                        <a:pt x="2621" y="750"/>
                      </a:lnTo>
                      <a:lnTo>
                        <a:pt x="2634" y="747"/>
                      </a:lnTo>
                      <a:lnTo>
                        <a:pt x="2625" y="739"/>
                      </a:lnTo>
                      <a:lnTo>
                        <a:pt x="1946" y="3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5" name="Group 10"/>
              <p:cNvGrpSpPr/>
              <p:nvPr/>
            </p:nvGrpSpPr>
            <p:grpSpPr>
              <a:xfrm>
                <a:off x="4681440" y="1478520"/>
                <a:ext cx="215280" cy="502560"/>
                <a:chOff x="4681440" y="1478520"/>
                <a:chExt cx="215280" cy="502560"/>
              </a:xfrm>
            </p:grpSpPr>
            <p:sp>
              <p:nvSpPr>
                <p:cNvPr id="2466" name="Freeform 11"/>
                <p:cNvSpPr/>
                <p:nvPr/>
              </p:nvSpPr>
              <p:spPr>
                <a:xfrm>
                  <a:off x="4684320" y="1484280"/>
                  <a:ext cx="208800" cy="4903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7" y="850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5"/>
                      </a:lnTo>
                      <a:lnTo>
                        <a:pt x="27" y="85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Freeform 12"/>
                <p:cNvSpPr/>
                <p:nvPr/>
              </p:nvSpPr>
              <p:spPr>
                <a:xfrm>
                  <a:off x="4681440" y="1478520"/>
                  <a:ext cx="215280" cy="5025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502560"/>
                    <a:gd name="textAreaBottom" fmla="*/ 502920 h 50256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2"/>
                      </a:lnTo>
                      <a:lnTo>
                        <a:pt x="35" y="872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0"/>
                      </a:lnTo>
                      <a:lnTo>
                        <a:pt x="29" y="872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0" y="870"/>
                      </a:lnTo>
                      <a:lnTo>
                        <a:pt x="590" y="868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8" name="Group 13"/>
              <p:cNvGrpSpPr/>
              <p:nvPr/>
            </p:nvGrpSpPr>
            <p:grpSpPr>
              <a:xfrm>
                <a:off x="4582440" y="1190880"/>
                <a:ext cx="845280" cy="338400"/>
                <a:chOff x="4582440" y="1190880"/>
                <a:chExt cx="845280" cy="338400"/>
              </a:xfrm>
            </p:grpSpPr>
            <p:sp>
              <p:nvSpPr>
                <p:cNvPr id="2469" name="Freeform 14"/>
                <p:cNvSpPr/>
                <p:nvPr/>
              </p:nvSpPr>
              <p:spPr>
                <a:xfrm>
                  <a:off x="4587480" y="1193400"/>
                  <a:ext cx="834840" cy="333000"/>
                </a:xfrm>
                <a:custGeom>
                  <a:avLst/>
                  <a:gdLst>
                    <a:gd name="textAreaLeft" fmla="*/ 0 w 834840"/>
                    <a:gd name="textAreaRight" fmla="*/ 835200 w 83484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3">
                      <a:moveTo>
                        <a:pt x="510" y="324"/>
                      </a:moveTo>
                      <a:lnTo>
                        <a:pt x="0" y="1153"/>
                      </a:lnTo>
                      <a:lnTo>
                        <a:pt x="1898" y="829"/>
                      </a:lnTo>
                      <a:lnTo>
                        <a:pt x="2408" y="0"/>
                      </a:lnTo>
                      <a:lnTo>
                        <a:pt x="510" y="324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Freeform 15"/>
                <p:cNvSpPr/>
                <p:nvPr/>
              </p:nvSpPr>
              <p:spPr>
                <a:xfrm>
                  <a:off x="4582440" y="1190880"/>
                  <a:ext cx="845280" cy="338400"/>
                </a:xfrm>
                <a:custGeom>
                  <a:avLst/>
                  <a:gdLst>
                    <a:gd name="textAreaLeft" fmla="*/ 0 w 845280"/>
                    <a:gd name="textAreaRight" fmla="*/ 845640 w 845280"/>
                    <a:gd name="textAreaTop" fmla="*/ 0 h 338400"/>
                    <a:gd name="textAreaBottom" fmla="*/ 338400 h 338400"/>
                  </a:gdLst>
                  <a:ahLst/>
                  <a:rect l="textAreaLeft" t="textAreaTop" r="textAreaRight" b="textAreaBottom"/>
                  <a:pathLst>
                    <a:path w="2435" h="1171">
                      <a:moveTo>
                        <a:pt x="9" y="1157"/>
                      </a:moveTo>
                      <a:lnTo>
                        <a:pt x="0" y="1171"/>
                      </a:lnTo>
                      <a:lnTo>
                        <a:pt x="15" y="1168"/>
                      </a:lnTo>
                      <a:lnTo>
                        <a:pt x="1912" y="845"/>
                      </a:lnTo>
                      <a:lnTo>
                        <a:pt x="1915" y="845"/>
                      </a:lnTo>
                      <a:lnTo>
                        <a:pt x="1916" y="843"/>
                      </a:lnTo>
                      <a:lnTo>
                        <a:pt x="2427" y="14"/>
                      </a:lnTo>
                      <a:lnTo>
                        <a:pt x="2435" y="0"/>
                      </a:lnTo>
                      <a:lnTo>
                        <a:pt x="2420" y="2"/>
                      </a:lnTo>
                      <a:lnTo>
                        <a:pt x="522" y="326"/>
                      </a:lnTo>
                      <a:lnTo>
                        <a:pt x="518" y="326"/>
                      </a:lnTo>
                      <a:lnTo>
                        <a:pt x="518" y="328"/>
                      </a:lnTo>
                      <a:lnTo>
                        <a:pt x="9" y="1157"/>
                      </a:lnTo>
                      <a:close/>
                      <a:moveTo>
                        <a:pt x="528" y="337"/>
                      </a:moveTo>
                      <a:lnTo>
                        <a:pt x="523" y="333"/>
                      </a:lnTo>
                      <a:lnTo>
                        <a:pt x="524" y="339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7" y="5"/>
                      </a:lnTo>
                      <a:lnTo>
                        <a:pt x="1906" y="834"/>
                      </a:lnTo>
                      <a:lnTo>
                        <a:pt x="1911" y="838"/>
                      </a:lnTo>
                      <a:lnTo>
                        <a:pt x="1910" y="832"/>
                      </a:lnTo>
                      <a:lnTo>
                        <a:pt x="12" y="1155"/>
                      </a:lnTo>
                      <a:lnTo>
                        <a:pt x="13" y="1162"/>
                      </a:lnTo>
                      <a:lnTo>
                        <a:pt x="19" y="1166"/>
                      </a:lnTo>
                      <a:lnTo>
                        <a:pt x="528" y="337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1" name="Group 16"/>
              <p:cNvGrpSpPr/>
              <p:nvPr/>
            </p:nvGrpSpPr>
            <p:grpSpPr>
              <a:xfrm>
                <a:off x="4882320" y="990720"/>
                <a:ext cx="214200" cy="503280"/>
                <a:chOff x="4882320" y="990720"/>
                <a:chExt cx="214200" cy="503280"/>
              </a:xfrm>
            </p:grpSpPr>
            <p:sp>
              <p:nvSpPr>
                <p:cNvPr id="2472" name="Freeform 17"/>
                <p:cNvSpPr/>
                <p:nvPr/>
              </p:nvSpPr>
              <p:spPr>
                <a:xfrm>
                  <a:off x="4884120" y="996480"/>
                  <a:ext cx="210240" cy="49032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0320"/>
                    <a:gd name="textAreaBottom" fmla="*/ 490680 h 490320"/>
                  </a:gdLst>
                  <a:ahLst/>
                  <a:rect l="textAreaLeft" t="textAreaTop" r="textAreaRight" b="textAreaBottom"/>
                  <a:pathLst>
                    <a:path w="604" h="1695">
                      <a:moveTo>
                        <a:pt x="28" y="849"/>
                      </a:moveTo>
                      <a:lnTo>
                        <a:pt x="604" y="0"/>
                      </a:lnTo>
                      <a:lnTo>
                        <a:pt x="576" y="845"/>
                      </a:lnTo>
                      <a:lnTo>
                        <a:pt x="0" y="1695"/>
                      </a:lnTo>
                      <a:lnTo>
                        <a:pt x="28" y="849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Freeform 18"/>
                <p:cNvSpPr/>
                <p:nvPr/>
              </p:nvSpPr>
              <p:spPr>
                <a:xfrm>
                  <a:off x="4882320" y="990720"/>
                  <a:ext cx="214200" cy="503280"/>
                </a:xfrm>
                <a:custGeom>
                  <a:avLst/>
                  <a:gdLst>
                    <a:gd name="textAreaLeft" fmla="*/ 0 w 214200"/>
                    <a:gd name="textAreaRight" fmla="*/ 214560 w 21420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19" h="1739">
                      <a:moveTo>
                        <a:pt x="616" y="27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7"/>
                      </a:lnTo>
                      <a:lnTo>
                        <a:pt x="584" y="867"/>
                      </a:lnTo>
                      <a:lnTo>
                        <a:pt x="579" y="862"/>
                      </a:lnTo>
                      <a:lnTo>
                        <a:pt x="3" y="1713"/>
                      </a:lnTo>
                      <a:lnTo>
                        <a:pt x="8" y="1717"/>
                      </a:lnTo>
                      <a:lnTo>
                        <a:pt x="14" y="1717"/>
                      </a:lnTo>
                      <a:lnTo>
                        <a:pt x="42" y="871"/>
                      </a:lnTo>
                      <a:lnTo>
                        <a:pt x="36" y="871"/>
                      </a:lnTo>
                      <a:lnTo>
                        <a:pt x="40" y="877"/>
                      </a:lnTo>
                      <a:lnTo>
                        <a:pt x="616" y="27"/>
                      </a:lnTo>
                      <a:close/>
                      <a:moveTo>
                        <a:pt x="31" y="867"/>
                      </a:moveTo>
                      <a:lnTo>
                        <a:pt x="29" y="869"/>
                      </a:lnTo>
                      <a:lnTo>
                        <a:pt x="29" y="871"/>
                      </a:lnTo>
                      <a:lnTo>
                        <a:pt x="1" y="1717"/>
                      </a:lnTo>
                      <a:lnTo>
                        <a:pt x="0" y="1739"/>
                      </a:lnTo>
                      <a:lnTo>
                        <a:pt x="12" y="1723"/>
                      </a:lnTo>
                      <a:lnTo>
                        <a:pt x="588" y="872"/>
                      </a:lnTo>
                      <a:lnTo>
                        <a:pt x="591" y="869"/>
                      </a:lnTo>
                      <a:lnTo>
                        <a:pt x="591" y="867"/>
                      </a:lnTo>
                      <a:lnTo>
                        <a:pt x="618" y="22"/>
                      </a:lnTo>
                      <a:lnTo>
                        <a:pt x="619" y="0"/>
                      </a:lnTo>
                      <a:lnTo>
                        <a:pt x="607" y="17"/>
                      </a:lnTo>
                      <a:lnTo>
                        <a:pt x="31" y="867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4" name="Group 19"/>
              <p:cNvGrpSpPr/>
              <p:nvPr/>
            </p:nvGrpSpPr>
            <p:grpSpPr>
              <a:xfrm>
                <a:off x="4343400" y="1224000"/>
                <a:ext cx="903240" cy="307080"/>
                <a:chOff x="4343400" y="1224000"/>
                <a:chExt cx="903240" cy="307080"/>
              </a:xfrm>
            </p:grpSpPr>
            <p:sp>
              <p:nvSpPr>
                <p:cNvPr id="2475" name="Freeform 20"/>
                <p:cNvSpPr/>
                <p:nvPr/>
              </p:nvSpPr>
              <p:spPr>
                <a:xfrm>
                  <a:off x="4347360" y="1225440"/>
                  <a:ext cx="893880" cy="302760"/>
                </a:xfrm>
                <a:custGeom>
                  <a:avLst/>
                  <a:gdLst>
                    <a:gd name="textAreaLeft" fmla="*/ 0 w 893880"/>
                    <a:gd name="textAreaRight" fmla="*/ 894240 w 893880"/>
                    <a:gd name="textAreaTop" fmla="*/ 0 h 302760"/>
                    <a:gd name="textAreaBottom" fmla="*/ 303120 h 302760"/>
                  </a:gdLst>
                  <a:ahLst/>
                  <a:rect l="textAreaLeft" t="textAreaTop" r="textAreaRight" b="textAreaBottom"/>
                  <a:pathLst>
                    <a:path w="2577" h="1047">
                      <a:moveTo>
                        <a:pt x="1894" y="0"/>
                      </a:moveTo>
                      <a:lnTo>
                        <a:pt x="2577" y="725"/>
                      </a:lnTo>
                      <a:lnTo>
                        <a:pt x="683" y="1047"/>
                      </a:lnTo>
                      <a:lnTo>
                        <a:pt x="0" y="323"/>
                      </a:lnTo>
                      <a:lnTo>
                        <a:pt x="1894" y="0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Freeform 21"/>
                <p:cNvSpPr/>
                <p:nvPr/>
              </p:nvSpPr>
              <p:spPr>
                <a:xfrm>
                  <a:off x="4343400" y="1224000"/>
                  <a:ext cx="903240" cy="307080"/>
                </a:xfrm>
                <a:custGeom>
                  <a:avLst/>
                  <a:gdLst>
                    <a:gd name="textAreaLeft" fmla="*/ 0 w 903240"/>
                    <a:gd name="textAreaRight" fmla="*/ 903600 w 903240"/>
                    <a:gd name="textAreaTop" fmla="*/ 0 h 307080"/>
                    <a:gd name="textAreaBottom" fmla="*/ 307440 h 307080"/>
                  </a:gdLst>
                  <a:ahLst/>
                  <a:rect l="textAreaLeft" t="textAreaTop" r="textAreaRight" b="textAreaBottom"/>
                  <a:pathLst>
                    <a:path w="2604" h="1061">
                      <a:moveTo>
                        <a:pt x="2587" y="737"/>
                      </a:moveTo>
                      <a:lnTo>
                        <a:pt x="2591" y="731"/>
                      </a:lnTo>
                      <a:lnTo>
                        <a:pt x="2589" y="724"/>
                      </a:lnTo>
                      <a:lnTo>
                        <a:pt x="695" y="1047"/>
                      </a:lnTo>
                      <a:lnTo>
                        <a:pt x="697" y="1053"/>
                      </a:lnTo>
                      <a:lnTo>
                        <a:pt x="701" y="1049"/>
                      </a:lnTo>
                      <a:lnTo>
                        <a:pt x="18" y="324"/>
                      </a:lnTo>
                      <a:lnTo>
                        <a:pt x="14" y="329"/>
                      </a:lnTo>
                      <a:lnTo>
                        <a:pt x="15" y="335"/>
                      </a:lnTo>
                      <a:lnTo>
                        <a:pt x="1909" y="13"/>
                      </a:lnTo>
                      <a:lnTo>
                        <a:pt x="1908" y="6"/>
                      </a:lnTo>
                      <a:lnTo>
                        <a:pt x="1904" y="12"/>
                      </a:lnTo>
                      <a:lnTo>
                        <a:pt x="2587" y="737"/>
                      </a:lnTo>
                      <a:close/>
                      <a:moveTo>
                        <a:pt x="1912" y="2"/>
                      </a:moveTo>
                      <a:lnTo>
                        <a:pt x="1910" y="0"/>
                      </a:lnTo>
                      <a:lnTo>
                        <a:pt x="1907" y="0"/>
                      </a:lnTo>
                      <a:lnTo>
                        <a:pt x="13" y="322"/>
                      </a:lnTo>
                      <a:lnTo>
                        <a:pt x="0" y="324"/>
                      </a:lnTo>
                      <a:lnTo>
                        <a:pt x="10" y="334"/>
                      </a:lnTo>
                      <a:lnTo>
                        <a:pt x="693" y="1059"/>
                      </a:lnTo>
                      <a:lnTo>
                        <a:pt x="694" y="1061"/>
                      </a:lnTo>
                      <a:lnTo>
                        <a:pt x="698" y="1060"/>
                      </a:lnTo>
                      <a:lnTo>
                        <a:pt x="2592" y="738"/>
                      </a:lnTo>
                      <a:lnTo>
                        <a:pt x="2604" y="736"/>
                      </a:lnTo>
                      <a:lnTo>
                        <a:pt x="2595" y="727"/>
                      </a:lnTo>
                      <a:lnTo>
                        <a:pt x="1912" y="2"/>
                      </a:lnTo>
                      <a:close/>
                    </a:path>
                  </a:pathLst>
                </a:custGeom>
                <a:solidFill>
                  <a:srgbClr val="ff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7" name="Group 22"/>
              <p:cNvGrpSpPr/>
              <p:nvPr/>
            </p:nvGrpSpPr>
            <p:grpSpPr>
              <a:xfrm>
                <a:off x="4402440" y="1433160"/>
                <a:ext cx="844200" cy="338400"/>
                <a:chOff x="4402440" y="1433160"/>
                <a:chExt cx="844200" cy="338400"/>
              </a:xfrm>
            </p:grpSpPr>
            <p:sp>
              <p:nvSpPr>
                <p:cNvPr id="2478" name="Freeform 23"/>
                <p:cNvSpPr/>
                <p:nvPr/>
              </p:nvSpPr>
              <p:spPr>
                <a:xfrm>
                  <a:off x="4406400" y="1435680"/>
                  <a:ext cx="835920" cy="333000"/>
                </a:xfrm>
                <a:custGeom>
                  <a:avLst/>
                  <a:gdLst>
                    <a:gd name="textAreaLeft" fmla="*/ 0 w 835920"/>
                    <a:gd name="textAreaRight" fmla="*/ 836280 w 835920"/>
                    <a:gd name="textAreaTop" fmla="*/ 0 h 333000"/>
                    <a:gd name="textAreaBottom" fmla="*/ 333360 h 333000"/>
                  </a:gdLst>
                  <a:ahLst/>
                  <a:rect l="textAreaLeft" t="textAreaTop" r="textAreaRight" b="textAreaBottom"/>
                  <a:pathLst>
                    <a:path w="2408" h="1151">
                      <a:moveTo>
                        <a:pt x="510" y="323"/>
                      </a:moveTo>
                      <a:lnTo>
                        <a:pt x="0" y="1151"/>
                      </a:lnTo>
                      <a:lnTo>
                        <a:pt x="1898" y="828"/>
                      </a:lnTo>
                      <a:lnTo>
                        <a:pt x="2408" y="0"/>
                      </a:lnTo>
                      <a:lnTo>
                        <a:pt x="510" y="32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Freeform 24"/>
                <p:cNvSpPr/>
                <p:nvPr/>
              </p:nvSpPr>
              <p:spPr>
                <a:xfrm>
                  <a:off x="4402440" y="1433160"/>
                  <a:ext cx="844200" cy="338400"/>
                </a:xfrm>
                <a:custGeom>
                  <a:avLst/>
                  <a:gdLst>
                    <a:gd name="textAreaLeft" fmla="*/ 0 w 844200"/>
                    <a:gd name="textAreaRight" fmla="*/ 844560 w 84420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2434" h="1169">
                      <a:moveTo>
                        <a:pt x="9" y="1155"/>
                      </a:moveTo>
                      <a:lnTo>
                        <a:pt x="0" y="1169"/>
                      </a:lnTo>
                      <a:lnTo>
                        <a:pt x="14" y="1166"/>
                      </a:lnTo>
                      <a:lnTo>
                        <a:pt x="1913" y="844"/>
                      </a:lnTo>
                      <a:lnTo>
                        <a:pt x="1916" y="844"/>
                      </a:lnTo>
                      <a:lnTo>
                        <a:pt x="1917" y="842"/>
                      </a:lnTo>
                      <a:lnTo>
                        <a:pt x="2426" y="14"/>
                      </a:lnTo>
                      <a:lnTo>
                        <a:pt x="2434" y="0"/>
                      </a:lnTo>
                      <a:lnTo>
                        <a:pt x="2420" y="3"/>
                      </a:lnTo>
                      <a:lnTo>
                        <a:pt x="522" y="325"/>
                      </a:lnTo>
                      <a:lnTo>
                        <a:pt x="519" y="325"/>
                      </a:lnTo>
                      <a:lnTo>
                        <a:pt x="519" y="327"/>
                      </a:lnTo>
                      <a:lnTo>
                        <a:pt x="9" y="1155"/>
                      </a:lnTo>
                      <a:close/>
                      <a:moveTo>
                        <a:pt x="529" y="336"/>
                      </a:moveTo>
                      <a:lnTo>
                        <a:pt x="523" y="332"/>
                      </a:lnTo>
                      <a:lnTo>
                        <a:pt x="525" y="338"/>
                      </a:lnTo>
                      <a:lnTo>
                        <a:pt x="2422" y="16"/>
                      </a:lnTo>
                      <a:lnTo>
                        <a:pt x="2421" y="9"/>
                      </a:lnTo>
                      <a:lnTo>
                        <a:pt x="2416" y="5"/>
                      </a:lnTo>
                      <a:lnTo>
                        <a:pt x="1907" y="833"/>
                      </a:lnTo>
                      <a:lnTo>
                        <a:pt x="1911" y="837"/>
                      </a:lnTo>
                      <a:lnTo>
                        <a:pt x="1910" y="831"/>
                      </a:lnTo>
                      <a:lnTo>
                        <a:pt x="12" y="1153"/>
                      </a:lnTo>
                      <a:lnTo>
                        <a:pt x="13" y="1160"/>
                      </a:lnTo>
                      <a:lnTo>
                        <a:pt x="19" y="1164"/>
                      </a:lnTo>
                      <a:lnTo>
                        <a:pt x="529" y="33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0" name="Group 25"/>
              <p:cNvGrpSpPr/>
              <p:nvPr/>
            </p:nvGrpSpPr>
            <p:grpSpPr>
              <a:xfrm>
                <a:off x="4689720" y="1228320"/>
                <a:ext cx="214560" cy="503280"/>
                <a:chOff x="4689720" y="1228320"/>
                <a:chExt cx="214560" cy="503280"/>
              </a:xfrm>
            </p:grpSpPr>
            <p:sp>
              <p:nvSpPr>
                <p:cNvPr id="2481" name="Freeform 26"/>
                <p:cNvSpPr/>
                <p:nvPr/>
              </p:nvSpPr>
              <p:spPr>
                <a:xfrm>
                  <a:off x="4691520" y="1234080"/>
                  <a:ext cx="210240" cy="491040"/>
                </a:xfrm>
                <a:custGeom>
                  <a:avLst/>
                  <a:gdLst>
                    <a:gd name="textAreaLeft" fmla="*/ 0 w 210240"/>
                    <a:gd name="textAreaRight" fmla="*/ 210600 w 210240"/>
                    <a:gd name="textAreaTop" fmla="*/ 0 h 491040"/>
                    <a:gd name="textAreaBottom" fmla="*/ 491400 h 491040"/>
                  </a:gdLst>
                  <a:ahLst/>
                  <a:rect l="textAreaLeft" t="textAreaTop" r="textAreaRight" b="textAreaBottom"/>
                  <a:pathLst>
                    <a:path w="604" h="1696">
                      <a:moveTo>
                        <a:pt x="28" y="851"/>
                      </a:moveTo>
                      <a:lnTo>
                        <a:pt x="604" y="0"/>
                      </a:lnTo>
                      <a:lnTo>
                        <a:pt x="576" y="846"/>
                      </a:lnTo>
                      <a:lnTo>
                        <a:pt x="0" y="1696"/>
                      </a:lnTo>
                      <a:lnTo>
                        <a:pt x="28" y="851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Freeform 27"/>
                <p:cNvSpPr/>
                <p:nvPr/>
              </p:nvSpPr>
              <p:spPr>
                <a:xfrm>
                  <a:off x="4689720" y="1228320"/>
                  <a:ext cx="214560" cy="50328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503280"/>
                    <a:gd name="textAreaBottom" fmla="*/ 503640 h 503280"/>
                  </a:gdLst>
                  <a:ahLst/>
                  <a:rect l="textAreaLeft" t="textAreaTop" r="textAreaRight" b="textAreaBottom"/>
                  <a:pathLst>
                    <a:path w="620" h="1740">
                      <a:moveTo>
                        <a:pt x="616" y="28"/>
                      </a:moveTo>
                      <a:lnTo>
                        <a:pt x="612" y="22"/>
                      </a:lnTo>
                      <a:lnTo>
                        <a:pt x="605" y="22"/>
                      </a:lnTo>
                      <a:lnTo>
                        <a:pt x="577" y="868"/>
                      </a:lnTo>
                      <a:lnTo>
                        <a:pt x="584" y="868"/>
                      </a:lnTo>
                      <a:lnTo>
                        <a:pt x="579" y="864"/>
                      </a:lnTo>
                      <a:lnTo>
                        <a:pt x="3" y="1713"/>
                      </a:lnTo>
                      <a:lnTo>
                        <a:pt x="8" y="1718"/>
                      </a:lnTo>
                      <a:lnTo>
                        <a:pt x="15" y="1718"/>
                      </a:lnTo>
                      <a:lnTo>
                        <a:pt x="42" y="873"/>
                      </a:lnTo>
                      <a:lnTo>
                        <a:pt x="36" y="873"/>
                      </a:lnTo>
                      <a:lnTo>
                        <a:pt x="40" y="878"/>
                      </a:lnTo>
                      <a:lnTo>
                        <a:pt x="616" y="28"/>
                      </a:lnTo>
                      <a:close/>
                      <a:moveTo>
                        <a:pt x="31" y="868"/>
                      </a:moveTo>
                      <a:lnTo>
                        <a:pt x="29" y="871"/>
                      </a:lnTo>
                      <a:lnTo>
                        <a:pt x="29" y="873"/>
                      </a:lnTo>
                      <a:lnTo>
                        <a:pt x="1" y="1718"/>
                      </a:lnTo>
                      <a:lnTo>
                        <a:pt x="0" y="1740"/>
                      </a:lnTo>
                      <a:lnTo>
                        <a:pt x="12" y="1723"/>
                      </a:lnTo>
                      <a:lnTo>
                        <a:pt x="588" y="874"/>
                      </a:lnTo>
                      <a:lnTo>
                        <a:pt x="591" y="871"/>
                      </a:lnTo>
                      <a:lnTo>
                        <a:pt x="591" y="868"/>
                      </a:lnTo>
                      <a:lnTo>
                        <a:pt x="618" y="22"/>
                      </a:lnTo>
                      <a:lnTo>
                        <a:pt x="620" y="0"/>
                      </a:lnTo>
                      <a:lnTo>
                        <a:pt x="607" y="18"/>
                      </a:lnTo>
                      <a:lnTo>
                        <a:pt x="31" y="868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3" name="Freeform 28"/>
            <p:cNvSpPr/>
            <p:nvPr/>
          </p:nvSpPr>
          <p:spPr>
            <a:xfrm>
              <a:off x="4590360" y="1068480"/>
              <a:ext cx="61920" cy="51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29"/>
            <p:cNvSpPr/>
            <p:nvPr/>
          </p:nvSpPr>
          <p:spPr>
            <a:xfrm>
              <a:off x="4613040" y="1497600"/>
              <a:ext cx="1224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30"/>
            <p:cNvSpPr/>
            <p:nvPr/>
          </p:nvSpPr>
          <p:spPr>
            <a:xfrm>
              <a:off x="4536720" y="1837800"/>
              <a:ext cx="1584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31"/>
            <p:cNvSpPr/>
            <p:nvPr/>
          </p:nvSpPr>
          <p:spPr>
            <a:xfrm>
              <a:off x="4764600" y="1838520"/>
              <a:ext cx="65412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32"/>
            <p:cNvSpPr/>
            <p:nvPr/>
          </p:nvSpPr>
          <p:spPr>
            <a:xfrm>
              <a:off x="5416920" y="1817280"/>
              <a:ext cx="61200" cy="518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98" h="200">
                  <a:moveTo>
                    <a:pt x="0" y="200"/>
                  </a:moveTo>
                  <a:lnTo>
                    <a:pt x="198" y="98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33"/>
            <p:cNvSpPr/>
            <p:nvPr/>
          </p:nvSpPr>
          <p:spPr>
            <a:xfrm>
              <a:off x="4613040" y="1401120"/>
              <a:ext cx="12240" cy="17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34"/>
            <p:cNvSpPr/>
            <p:nvPr/>
          </p:nvSpPr>
          <p:spPr>
            <a:xfrm>
              <a:off x="4613040" y="11124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35"/>
            <p:cNvSpPr/>
            <p:nvPr/>
          </p:nvSpPr>
          <p:spPr>
            <a:xfrm>
              <a:off x="4613040" y="1740600"/>
              <a:ext cx="12240" cy="17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1" name="Group 36"/>
          <p:cNvGrpSpPr/>
          <p:nvPr/>
        </p:nvGrpSpPr>
        <p:grpSpPr>
          <a:xfrm>
            <a:off x="2438280" y="4038480"/>
            <a:ext cx="1371240" cy="838080"/>
            <a:chOff x="2438280" y="4038480"/>
            <a:chExt cx="1371240" cy="838080"/>
          </a:xfrm>
        </p:grpSpPr>
        <p:grpSp>
          <p:nvGrpSpPr>
            <p:cNvPr id="2492" name="Group 37"/>
            <p:cNvGrpSpPr/>
            <p:nvPr/>
          </p:nvGrpSpPr>
          <p:grpSpPr>
            <a:xfrm>
              <a:off x="2438280" y="4295160"/>
              <a:ext cx="918360" cy="364320"/>
              <a:chOff x="2438280" y="4295160"/>
              <a:chExt cx="918360" cy="364320"/>
            </a:xfrm>
          </p:grpSpPr>
          <p:sp>
            <p:nvSpPr>
              <p:cNvPr id="2493" name="Freeform 38"/>
              <p:cNvSpPr/>
              <p:nvPr/>
            </p:nvSpPr>
            <p:spPr>
              <a:xfrm>
                <a:off x="2443680" y="4297320"/>
                <a:ext cx="908640" cy="35964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9640"/>
                  <a:gd name="textAreaBottom" fmla="*/ 360000 h 35964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8"/>
                    </a:moveTo>
                    <a:lnTo>
                      <a:pt x="0" y="1309"/>
                    </a:lnTo>
                    <a:lnTo>
                      <a:pt x="2155" y="942"/>
                    </a:lnTo>
                    <a:lnTo>
                      <a:pt x="2734" y="0"/>
                    </a:lnTo>
                    <a:lnTo>
                      <a:pt x="578" y="368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39"/>
              <p:cNvSpPr/>
              <p:nvPr/>
            </p:nvSpPr>
            <p:spPr>
              <a:xfrm>
                <a:off x="2438280" y="429516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30">
                    <a:moveTo>
                      <a:pt x="10" y="1314"/>
                    </a:moveTo>
                    <a:lnTo>
                      <a:pt x="0" y="1330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3"/>
                    </a:lnTo>
                    <a:lnTo>
                      <a:pt x="592" y="371"/>
                    </a:lnTo>
                    <a:lnTo>
                      <a:pt x="588" y="371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3" y="378"/>
                    </a:lnTo>
                    <a:lnTo>
                      <a:pt x="595" y="386"/>
                    </a:lnTo>
                    <a:lnTo>
                      <a:pt x="2751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5" y="947"/>
                    </a:lnTo>
                    <a:lnTo>
                      <a:pt x="2170" y="952"/>
                    </a:lnTo>
                    <a:lnTo>
                      <a:pt x="2168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1" y="1325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5" name="Group 40"/>
            <p:cNvGrpSpPr/>
            <p:nvPr/>
          </p:nvGrpSpPr>
          <p:grpSpPr>
            <a:xfrm>
              <a:off x="2701440" y="4511520"/>
              <a:ext cx="918000" cy="365040"/>
              <a:chOff x="2701440" y="4511520"/>
              <a:chExt cx="918000" cy="365040"/>
            </a:xfrm>
          </p:grpSpPr>
          <p:sp>
            <p:nvSpPr>
              <p:cNvPr id="2496" name="Freeform 41"/>
              <p:cNvSpPr/>
              <p:nvPr/>
            </p:nvSpPr>
            <p:spPr>
              <a:xfrm>
                <a:off x="2705040" y="4514400"/>
                <a:ext cx="908640" cy="35856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1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42"/>
              <p:cNvSpPr/>
              <p:nvPr/>
            </p:nvSpPr>
            <p:spPr>
              <a:xfrm>
                <a:off x="2701440" y="4511520"/>
                <a:ext cx="918000" cy="36504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7" y="1327"/>
                    </a:lnTo>
                    <a:lnTo>
                      <a:pt x="2171" y="959"/>
                    </a:lnTo>
                    <a:lnTo>
                      <a:pt x="2175" y="959"/>
                    </a:lnTo>
                    <a:lnTo>
                      <a:pt x="2176" y="957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9" y="3"/>
                    </a:lnTo>
                    <a:lnTo>
                      <a:pt x="593" y="370"/>
                    </a:lnTo>
                    <a:lnTo>
                      <a:pt x="589" y="370"/>
                    </a:lnTo>
                    <a:lnTo>
                      <a:pt x="589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5" y="5"/>
                    </a:lnTo>
                    <a:lnTo>
                      <a:pt x="2165" y="946"/>
                    </a:lnTo>
                    <a:lnTo>
                      <a:pt x="2170" y="951"/>
                    </a:lnTo>
                    <a:lnTo>
                      <a:pt x="2169" y="944"/>
                    </a:lnTo>
                    <a:lnTo>
                      <a:pt x="14" y="1312"/>
                    </a:lnTo>
                    <a:lnTo>
                      <a:pt x="15" y="1319"/>
                    </a:lnTo>
                    <a:lnTo>
                      <a:pt x="22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8" name="Group 43"/>
            <p:cNvGrpSpPr/>
            <p:nvPr/>
          </p:nvGrpSpPr>
          <p:grpSpPr>
            <a:xfrm>
              <a:off x="2492640" y="4182120"/>
              <a:ext cx="1267920" cy="559440"/>
              <a:chOff x="2492640" y="4182120"/>
              <a:chExt cx="1267920" cy="559440"/>
            </a:xfrm>
          </p:grpSpPr>
          <p:sp>
            <p:nvSpPr>
              <p:cNvPr id="2499" name="Freeform 44"/>
              <p:cNvSpPr/>
              <p:nvPr/>
            </p:nvSpPr>
            <p:spPr>
              <a:xfrm>
                <a:off x="2498040" y="4184280"/>
                <a:ext cx="1257120" cy="554760"/>
              </a:xfrm>
              <a:custGeom>
                <a:avLst/>
                <a:gdLst>
                  <a:gd name="textAreaLeft" fmla="*/ 0 w 1257120"/>
                  <a:gd name="textAreaRight" fmla="*/ 1257480 w 1257120"/>
                  <a:gd name="textAreaTop" fmla="*/ 0 h 554760"/>
                  <a:gd name="textAreaBottom" fmla="*/ 555120 h 554760"/>
                </a:gdLst>
                <a:ahLst/>
                <a:rect l="textAreaLeft" t="textAreaTop" r="textAreaRight" b="textAreaBottom"/>
                <a:pathLst>
                  <a:path w="3784" h="2024">
                    <a:moveTo>
                      <a:pt x="2133" y="0"/>
                    </a:moveTo>
                    <a:lnTo>
                      <a:pt x="3784" y="1654"/>
                    </a:lnTo>
                    <a:lnTo>
                      <a:pt x="1651" y="2024"/>
                    </a:lnTo>
                    <a:lnTo>
                      <a:pt x="0" y="370"/>
                    </a:lnTo>
                    <a:lnTo>
                      <a:pt x="2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45"/>
              <p:cNvSpPr/>
              <p:nvPr/>
            </p:nvSpPr>
            <p:spPr>
              <a:xfrm>
                <a:off x="2492640" y="4182120"/>
                <a:ext cx="1267920" cy="559440"/>
              </a:xfrm>
              <a:custGeom>
                <a:avLst/>
                <a:gdLst>
                  <a:gd name="textAreaLeft" fmla="*/ 0 w 1267920"/>
                  <a:gd name="textAreaRight" fmla="*/ 1268280 w 1267920"/>
                  <a:gd name="textAreaTop" fmla="*/ 0 h 559440"/>
                  <a:gd name="textAreaBottom" fmla="*/ 559800 h 559440"/>
                </a:gdLst>
                <a:ahLst/>
                <a:rect l="textAreaLeft" t="textAreaTop" r="textAreaRight" b="textAreaBottom"/>
                <a:pathLst>
                  <a:path w="3814" h="2040">
                    <a:moveTo>
                      <a:pt x="3795" y="1668"/>
                    </a:moveTo>
                    <a:lnTo>
                      <a:pt x="3799" y="1661"/>
                    </a:lnTo>
                    <a:lnTo>
                      <a:pt x="3798" y="1654"/>
                    </a:lnTo>
                    <a:lnTo>
                      <a:pt x="1665" y="2024"/>
                    </a:lnTo>
                    <a:lnTo>
                      <a:pt x="1666" y="2031"/>
                    </a:lnTo>
                    <a:lnTo>
                      <a:pt x="1671" y="2026"/>
                    </a:lnTo>
                    <a:lnTo>
                      <a:pt x="20" y="372"/>
                    </a:lnTo>
                    <a:lnTo>
                      <a:pt x="15" y="377"/>
                    </a:lnTo>
                    <a:lnTo>
                      <a:pt x="16" y="385"/>
                    </a:lnTo>
                    <a:lnTo>
                      <a:pt x="2150" y="15"/>
                    </a:lnTo>
                    <a:lnTo>
                      <a:pt x="2148" y="7"/>
                    </a:lnTo>
                    <a:lnTo>
                      <a:pt x="2145" y="14"/>
                    </a:lnTo>
                    <a:lnTo>
                      <a:pt x="3795" y="1668"/>
                    </a:lnTo>
                    <a:close/>
                    <a:moveTo>
                      <a:pt x="2154" y="2"/>
                    </a:moveTo>
                    <a:lnTo>
                      <a:pt x="2151" y="0"/>
                    </a:lnTo>
                    <a:lnTo>
                      <a:pt x="2147" y="0"/>
                    </a:lnTo>
                    <a:lnTo>
                      <a:pt x="14" y="370"/>
                    </a:lnTo>
                    <a:lnTo>
                      <a:pt x="0" y="372"/>
                    </a:lnTo>
                    <a:lnTo>
                      <a:pt x="11" y="384"/>
                    </a:lnTo>
                    <a:lnTo>
                      <a:pt x="1662" y="2038"/>
                    </a:lnTo>
                    <a:lnTo>
                      <a:pt x="1665" y="2040"/>
                    </a:lnTo>
                    <a:lnTo>
                      <a:pt x="1667" y="2039"/>
                    </a:lnTo>
                    <a:lnTo>
                      <a:pt x="3801" y="1669"/>
                    </a:lnTo>
                    <a:lnTo>
                      <a:pt x="3814" y="1666"/>
                    </a:lnTo>
                    <a:lnTo>
                      <a:pt x="3804" y="1656"/>
                    </a:lnTo>
                    <a:lnTo>
                      <a:pt x="2154" y="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46"/>
            <p:cNvGrpSpPr/>
            <p:nvPr/>
          </p:nvGrpSpPr>
          <p:grpSpPr>
            <a:xfrm>
              <a:off x="2629440" y="4038480"/>
              <a:ext cx="918360" cy="364320"/>
              <a:chOff x="2629440" y="4038480"/>
              <a:chExt cx="918360" cy="364320"/>
            </a:xfrm>
          </p:grpSpPr>
          <p:sp>
            <p:nvSpPr>
              <p:cNvPr id="2502" name="Freeform 47"/>
              <p:cNvSpPr/>
              <p:nvPr/>
            </p:nvSpPr>
            <p:spPr>
              <a:xfrm>
                <a:off x="2634840" y="4040640"/>
                <a:ext cx="907560" cy="360000"/>
              </a:xfrm>
              <a:custGeom>
                <a:avLst/>
                <a:gdLst>
                  <a:gd name="textAreaLeft" fmla="*/ 0 w 907560"/>
                  <a:gd name="textAreaRight" fmla="*/ 907920 w 90756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4" h="1309">
                    <a:moveTo>
                      <a:pt x="578" y="367"/>
                    </a:moveTo>
                    <a:lnTo>
                      <a:pt x="0" y="1309"/>
                    </a:lnTo>
                    <a:lnTo>
                      <a:pt x="2154" y="941"/>
                    </a:lnTo>
                    <a:lnTo>
                      <a:pt x="2734" y="0"/>
                    </a:lnTo>
                    <a:lnTo>
                      <a:pt x="578" y="367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48"/>
              <p:cNvSpPr/>
              <p:nvPr/>
            </p:nvSpPr>
            <p:spPr>
              <a:xfrm>
                <a:off x="2629440" y="4038480"/>
                <a:ext cx="918360" cy="364320"/>
              </a:xfrm>
              <a:custGeom>
                <a:avLst/>
                <a:gdLst>
                  <a:gd name="textAreaLeft" fmla="*/ 0 w 918360"/>
                  <a:gd name="textAreaRight" fmla="*/ 918720 w 91836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4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59"/>
                    </a:lnTo>
                    <a:lnTo>
                      <a:pt x="2174" y="959"/>
                    </a:lnTo>
                    <a:lnTo>
                      <a:pt x="2176" y="956"/>
                    </a:lnTo>
                    <a:lnTo>
                      <a:pt x="2755" y="15"/>
                    </a:lnTo>
                    <a:lnTo>
                      <a:pt x="2764" y="0"/>
                    </a:lnTo>
                    <a:lnTo>
                      <a:pt x="2748" y="2"/>
                    </a:lnTo>
                    <a:lnTo>
                      <a:pt x="592" y="369"/>
                    </a:lnTo>
                    <a:lnTo>
                      <a:pt x="588" y="369"/>
                    </a:lnTo>
                    <a:lnTo>
                      <a:pt x="588" y="371"/>
                    </a:lnTo>
                    <a:lnTo>
                      <a:pt x="10" y="1314"/>
                    </a:lnTo>
                    <a:close/>
                    <a:moveTo>
                      <a:pt x="599" y="382"/>
                    </a:moveTo>
                    <a:lnTo>
                      <a:pt x="593" y="377"/>
                    </a:lnTo>
                    <a:lnTo>
                      <a:pt x="594" y="384"/>
                    </a:lnTo>
                    <a:lnTo>
                      <a:pt x="2750" y="18"/>
                    </a:lnTo>
                    <a:lnTo>
                      <a:pt x="2749" y="10"/>
                    </a:lnTo>
                    <a:lnTo>
                      <a:pt x="2744" y="5"/>
                    </a:lnTo>
                    <a:lnTo>
                      <a:pt x="2164" y="946"/>
                    </a:lnTo>
                    <a:lnTo>
                      <a:pt x="2169" y="951"/>
                    </a:lnTo>
                    <a:lnTo>
                      <a:pt x="2168" y="944"/>
                    </a:lnTo>
                    <a:lnTo>
                      <a:pt x="13" y="1312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599" y="38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4" name="Group 49"/>
            <p:cNvGrpSpPr/>
            <p:nvPr/>
          </p:nvGrpSpPr>
          <p:grpSpPr>
            <a:xfrm>
              <a:off x="2891520" y="4259160"/>
              <a:ext cx="918000" cy="364320"/>
              <a:chOff x="2891520" y="4259160"/>
              <a:chExt cx="918000" cy="364320"/>
            </a:xfrm>
          </p:grpSpPr>
          <p:sp>
            <p:nvSpPr>
              <p:cNvPr id="2505" name="Freeform 50"/>
              <p:cNvSpPr/>
              <p:nvPr/>
            </p:nvSpPr>
            <p:spPr>
              <a:xfrm>
                <a:off x="2896920" y="4260960"/>
                <a:ext cx="908640" cy="3600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60000"/>
                  <a:gd name="textAreaBottom" fmla="*/ 360000 h 360000"/>
                </a:gdLst>
                <a:ahLst/>
                <a:rect l="textAreaLeft" t="textAreaTop" r="textAreaRight" b="textAreaBottom"/>
                <a:pathLst>
                  <a:path w="2735" h="1309">
                    <a:moveTo>
                      <a:pt x="579" y="368"/>
                    </a:moveTo>
                    <a:lnTo>
                      <a:pt x="0" y="1309"/>
                    </a:lnTo>
                    <a:lnTo>
                      <a:pt x="2155" y="943"/>
                    </a:lnTo>
                    <a:lnTo>
                      <a:pt x="2735" y="0"/>
                    </a:lnTo>
                    <a:lnTo>
                      <a:pt x="579" y="368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51"/>
              <p:cNvSpPr/>
              <p:nvPr/>
            </p:nvSpPr>
            <p:spPr>
              <a:xfrm>
                <a:off x="2891520" y="4259160"/>
                <a:ext cx="918000" cy="364320"/>
              </a:xfrm>
              <a:custGeom>
                <a:avLst/>
                <a:gdLst>
                  <a:gd name="textAreaLeft" fmla="*/ 0 w 918000"/>
                  <a:gd name="textAreaRight" fmla="*/ 918360 w 91800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2765" h="1329">
                    <a:moveTo>
                      <a:pt x="10" y="1314"/>
                    </a:moveTo>
                    <a:lnTo>
                      <a:pt x="0" y="1329"/>
                    </a:lnTo>
                    <a:lnTo>
                      <a:pt x="16" y="1327"/>
                    </a:lnTo>
                    <a:lnTo>
                      <a:pt x="2171" y="960"/>
                    </a:lnTo>
                    <a:lnTo>
                      <a:pt x="2175" y="960"/>
                    </a:lnTo>
                    <a:lnTo>
                      <a:pt x="2176" y="958"/>
                    </a:lnTo>
                    <a:lnTo>
                      <a:pt x="2756" y="15"/>
                    </a:lnTo>
                    <a:lnTo>
                      <a:pt x="2765" y="0"/>
                    </a:lnTo>
                    <a:lnTo>
                      <a:pt x="2748" y="2"/>
                    </a:lnTo>
                    <a:lnTo>
                      <a:pt x="592" y="370"/>
                    </a:lnTo>
                    <a:lnTo>
                      <a:pt x="588" y="370"/>
                    </a:lnTo>
                    <a:lnTo>
                      <a:pt x="588" y="373"/>
                    </a:lnTo>
                    <a:lnTo>
                      <a:pt x="10" y="1314"/>
                    </a:lnTo>
                    <a:close/>
                    <a:moveTo>
                      <a:pt x="600" y="383"/>
                    </a:moveTo>
                    <a:lnTo>
                      <a:pt x="594" y="378"/>
                    </a:lnTo>
                    <a:lnTo>
                      <a:pt x="595" y="385"/>
                    </a:lnTo>
                    <a:lnTo>
                      <a:pt x="2751" y="18"/>
                    </a:lnTo>
                    <a:lnTo>
                      <a:pt x="2750" y="10"/>
                    </a:lnTo>
                    <a:lnTo>
                      <a:pt x="2744" y="5"/>
                    </a:lnTo>
                    <a:lnTo>
                      <a:pt x="2165" y="948"/>
                    </a:lnTo>
                    <a:lnTo>
                      <a:pt x="2170" y="953"/>
                    </a:lnTo>
                    <a:lnTo>
                      <a:pt x="2169" y="945"/>
                    </a:lnTo>
                    <a:lnTo>
                      <a:pt x="14" y="1311"/>
                    </a:lnTo>
                    <a:lnTo>
                      <a:pt x="15" y="1319"/>
                    </a:lnTo>
                    <a:lnTo>
                      <a:pt x="21" y="1324"/>
                    </a:lnTo>
                    <a:lnTo>
                      <a:pt x="600" y="38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07" name="Group 52"/>
          <p:cNvGrpSpPr/>
          <p:nvPr/>
        </p:nvGrpSpPr>
        <p:grpSpPr>
          <a:xfrm>
            <a:off x="4343400" y="1981080"/>
            <a:ext cx="914040" cy="1066680"/>
            <a:chOff x="4343400" y="1981080"/>
            <a:chExt cx="914040" cy="1066680"/>
          </a:xfrm>
        </p:grpSpPr>
        <p:grpSp>
          <p:nvGrpSpPr>
            <p:cNvPr id="2508" name="Group 53"/>
            <p:cNvGrpSpPr/>
            <p:nvPr/>
          </p:nvGrpSpPr>
          <p:grpSpPr>
            <a:xfrm>
              <a:off x="4343400" y="1981080"/>
              <a:ext cx="733320" cy="684720"/>
              <a:chOff x="4343400" y="1981080"/>
              <a:chExt cx="733320" cy="684720"/>
            </a:xfrm>
          </p:grpSpPr>
          <p:sp>
            <p:nvSpPr>
              <p:cNvPr id="2509" name="Freeform 54"/>
              <p:cNvSpPr/>
              <p:nvPr/>
            </p:nvSpPr>
            <p:spPr>
              <a:xfrm>
                <a:off x="4346640" y="1983240"/>
                <a:ext cx="725760" cy="67968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3114" h="2126">
                    <a:moveTo>
                      <a:pt x="1124" y="311"/>
                    </a:moveTo>
                    <a:lnTo>
                      <a:pt x="0" y="2126"/>
                    </a:lnTo>
                    <a:lnTo>
                      <a:pt x="1989" y="1815"/>
                    </a:lnTo>
                    <a:lnTo>
                      <a:pt x="3114" y="0"/>
                    </a:lnTo>
                    <a:lnTo>
                      <a:pt x="1124" y="31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Freeform 55"/>
              <p:cNvSpPr/>
              <p:nvPr/>
            </p:nvSpPr>
            <p:spPr>
              <a:xfrm>
                <a:off x="4343400" y="1981080"/>
                <a:ext cx="733320" cy="68472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4720"/>
                  <a:gd name="textAreaBottom" fmla="*/ 685080 h 68472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5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1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9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5" y="2136"/>
                    </a:lnTo>
                    <a:lnTo>
                      <a:pt x="21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1" name="Group 56"/>
            <p:cNvGrpSpPr/>
            <p:nvPr/>
          </p:nvGrpSpPr>
          <p:grpSpPr>
            <a:xfrm>
              <a:off x="4442040" y="2151720"/>
              <a:ext cx="733320" cy="686160"/>
              <a:chOff x="4442040" y="2151720"/>
              <a:chExt cx="733320" cy="686160"/>
            </a:xfrm>
          </p:grpSpPr>
          <p:sp>
            <p:nvSpPr>
              <p:cNvPr id="2512" name="Freeform 57"/>
              <p:cNvSpPr/>
              <p:nvPr/>
            </p:nvSpPr>
            <p:spPr>
              <a:xfrm>
                <a:off x="4445640" y="2155680"/>
                <a:ext cx="726840" cy="678240"/>
              </a:xfrm>
              <a:custGeom>
                <a:avLst/>
                <a:gdLst>
                  <a:gd name="textAreaLeft" fmla="*/ 0 w 726840"/>
                  <a:gd name="textAreaRight" fmla="*/ 726840 w 72684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5" h="2127">
                    <a:moveTo>
                      <a:pt x="1124" y="312"/>
                    </a:moveTo>
                    <a:lnTo>
                      <a:pt x="0" y="2127"/>
                    </a:lnTo>
                    <a:lnTo>
                      <a:pt x="1991" y="1815"/>
                    </a:lnTo>
                    <a:lnTo>
                      <a:pt x="3115" y="0"/>
                    </a:lnTo>
                    <a:lnTo>
                      <a:pt x="1124" y="312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58"/>
              <p:cNvSpPr/>
              <p:nvPr/>
            </p:nvSpPr>
            <p:spPr>
              <a:xfrm>
                <a:off x="4442040" y="215172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4" h="2145">
                    <a:moveTo>
                      <a:pt x="9" y="2131"/>
                    </a:moveTo>
                    <a:lnTo>
                      <a:pt x="0" y="2145"/>
                    </a:lnTo>
                    <a:lnTo>
                      <a:pt x="15" y="2143"/>
                    </a:lnTo>
                    <a:lnTo>
                      <a:pt x="2006" y="1831"/>
                    </a:lnTo>
                    <a:lnTo>
                      <a:pt x="2010" y="1831"/>
                    </a:lnTo>
                    <a:lnTo>
                      <a:pt x="2011" y="1829"/>
                    </a:lnTo>
                    <a:lnTo>
                      <a:pt x="3135" y="14"/>
                    </a:lnTo>
                    <a:lnTo>
                      <a:pt x="3144" y="0"/>
                    </a:lnTo>
                    <a:lnTo>
                      <a:pt x="3128" y="2"/>
                    </a:lnTo>
                    <a:lnTo>
                      <a:pt x="1137" y="314"/>
                    </a:lnTo>
                    <a:lnTo>
                      <a:pt x="1134" y="314"/>
                    </a:lnTo>
                    <a:lnTo>
                      <a:pt x="1134" y="316"/>
                    </a:lnTo>
                    <a:lnTo>
                      <a:pt x="9" y="2131"/>
                    </a:lnTo>
                    <a:close/>
                    <a:moveTo>
                      <a:pt x="1144" y="326"/>
                    </a:moveTo>
                    <a:lnTo>
                      <a:pt x="1138" y="321"/>
                    </a:lnTo>
                    <a:lnTo>
                      <a:pt x="1140" y="328"/>
                    </a:lnTo>
                    <a:lnTo>
                      <a:pt x="3130" y="16"/>
                    </a:lnTo>
                    <a:lnTo>
                      <a:pt x="3129" y="9"/>
                    </a:lnTo>
                    <a:lnTo>
                      <a:pt x="3124" y="4"/>
                    </a:lnTo>
                    <a:lnTo>
                      <a:pt x="2000" y="1819"/>
                    </a:lnTo>
                    <a:lnTo>
                      <a:pt x="2005" y="1824"/>
                    </a:lnTo>
                    <a:lnTo>
                      <a:pt x="2004" y="1817"/>
                    </a:lnTo>
                    <a:lnTo>
                      <a:pt x="13" y="2129"/>
                    </a:lnTo>
                    <a:lnTo>
                      <a:pt x="14" y="2136"/>
                    </a:lnTo>
                    <a:lnTo>
                      <a:pt x="20" y="2141"/>
                    </a:lnTo>
                    <a:lnTo>
                      <a:pt x="1144" y="32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4" name="Group 59"/>
            <p:cNvGrpSpPr/>
            <p:nvPr/>
          </p:nvGrpSpPr>
          <p:grpSpPr>
            <a:xfrm>
              <a:off x="4524120" y="2361600"/>
              <a:ext cx="733320" cy="686160"/>
              <a:chOff x="4524120" y="2361600"/>
              <a:chExt cx="733320" cy="686160"/>
            </a:xfrm>
          </p:grpSpPr>
          <p:sp>
            <p:nvSpPr>
              <p:cNvPr id="2515" name="Freeform 60"/>
              <p:cNvSpPr/>
              <p:nvPr/>
            </p:nvSpPr>
            <p:spPr>
              <a:xfrm>
                <a:off x="4527720" y="2365200"/>
                <a:ext cx="725760" cy="678240"/>
              </a:xfrm>
              <a:custGeom>
                <a:avLst/>
                <a:gdLst>
                  <a:gd name="textAreaLeft" fmla="*/ 0 w 725760"/>
                  <a:gd name="textAreaRight" fmla="*/ 726120 w 725760"/>
                  <a:gd name="textAreaTop" fmla="*/ 0 h 678240"/>
                  <a:gd name="textAreaBottom" fmla="*/ 678600 h 678240"/>
                </a:gdLst>
                <a:ahLst/>
                <a:rect l="textAreaLeft" t="textAreaTop" r="textAreaRight" b="textAreaBottom"/>
                <a:pathLst>
                  <a:path w="3114" h="2127">
                    <a:moveTo>
                      <a:pt x="1125" y="312"/>
                    </a:moveTo>
                    <a:lnTo>
                      <a:pt x="0" y="2127"/>
                    </a:lnTo>
                    <a:lnTo>
                      <a:pt x="1990" y="1815"/>
                    </a:lnTo>
                    <a:lnTo>
                      <a:pt x="3114" y="0"/>
                    </a:lnTo>
                    <a:lnTo>
                      <a:pt x="1125" y="312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61"/>
              <p:cNvSpPr/>
              <p:nvPr/>
            </p:nvSpPr>
            <p:spPr>
              <a:xfrm>
                <a:off x="4524120" y="2361600"/>
                <a:ext cx="733320" cy="686160"/>
              </a:xfrm>
              <a:custGeom>
                <a:avLst/>
                <a:gdLst>
                  <a:gd name="textAreaLeft" fmla="*/ 0 w 733320"/>
                  <a:gd name="textAreaRight" fmla="*/ 733320 w 73332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3143" h="2146">
                    <a:moveTo>
                      <a:pt x="10" y="2132"/>
                    </a:moveTo>
                    <a:lnTo>
                      <a:pt x="0" y="2146"/>
                    </a:lnTo>
                    <a:lnTo>
                      <a:pt x="16" y="2144"/>
                    </a:lnTo>
                    <a:lnTo>
                      <a:pt x="2005" y="1832"/>
                    </a:lnTo>
                    <a:lnTo>
                      <a:pt x="2009" y="1832"/>
                    </a:lnTo>
                    <a:lnTo>
                      <a:pt x="2010" y="1830"/>
                    </a:lnTo>
                    <a:lnTo>
                      <a:pt x="3134" y="15"/>
                    </a:lnTo>
                    <a:lnTo>
                      <a:pt x="3143" y="0"/>
                    </a:lnTo>
                    <a:lnTo>
                      <a:pt x="3127" y="3"/>
                    </a:lnTo>
                    <a:lnTo>
                      <a:pt x="1138" y="314"/>
                    </a:lnTo>
                    <a:lnTo>
                      <a:pt x="1134" y="314"/>
                    </a:lnTo>
                    <a:lnTo>
                      <a:pt x="1134" y="317"/>
                    </a:lnTo>
                    <a:lnTo>
                      <a:pt x="10" y="2132"/>
                    </a:lnTo>
                    <a:close/>
                    <a:moveTo>
                      <a:pt x="1145" y="326"/>
                    </a:moveTo>
                    <a:lnTo>
                      <a:pt x="1139" y="322"/>
                    </a:lnTo>
                    <a:lnTo>
                      <a:pt x="1140" y="329"/>
                    </a:lnTo>
                    <a:lnTo>
                      <a:pt x="3130" y="17"/>
                    </a:lnTo>
                    <a:lnTo>
                      <a:pt x="3128" y="10"/>
                    </a:lnTo>
                    <a:lnTo>
                      <a:pt x="3124" y="5"/>
                    </a:lnTo>
                    <a:lnTo>
                      <a:pt x="1999" y="1820"/>
                    </a:lnTo>
                    <a:lnTo>
                      <a:pt x="2004" y="1825"/>
                    </a:lnTo>
                    <a:lnTo>
                      <a:pt x="2003" y="1818"/>
                    </a:lnTo>
                    <a:lnTo>
                      <a:pt x="13" y="2129"/>
                    </a:lnTo>
                    <a:lnTo>
                      <a:pt x="14" y="2137"/>
                    </a:lnTo>
                    <a:lnTo>
                      <a:pt x="20" y="2141"/>
                    </a:lnTo>
                    <a:lnTo>
                      <a:pt x="1145" y="326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7" name="Group 62"/>
          <p:cNvGrpSpPr/>
          <p:nvPr/>
        </p:nvGrpSpPr>
        <p:grpSpPr>
          <a:xfrm>
            <a:off x="2512440" y="3137040"/>
            <a:ext cx="1458720" cy="802440"/>
            <a:chOff x="2512440" y="3137040"/>
            <a:chExt cx="1458720" cy="802440"/>
          </a:xfrm>
        </p:grpSpPr>
        <p:sp>
          <p:nvSpPr>
            <p:cNvPr id="2518" name="Freeform 63"/>
            <p:cNvSpPr/>
            <p:nvPr/>
          </p:nvSpPr>
          <p:spPr>
            <a:xfrm rot="21052200">
              <a:off x="2719800" y="3213720"/>
              <a:ext cx="757800" cy="29160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977" h="449">
                  <a:moveTo>
                    <a:pt x="129" y="449"/>
                  </a:moveTo>
                  <a:lnTo>
                    <a:pt x="0" y="276"/>
                  </a:lnTo>
                  <a:lnTo>
                    <a:pt x="926" y="0"/>
                  </a:lnTo>
                  <a:lnTo>
                    <a:pt x="977" y="71"/>
                  </a:lnTo>
                  <a:lnTo>
                    <a:pt x="261" y="284"/>
                  </a:lnTo>
                  <a:lnTo>
                    <a:pt x="129" y="44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64"/>
            <p:cNvSpPr/>
            <p:nvPr/>
          </p:nvSpPr>
          <p:spPr>
            <a:xfrm rot="21052200">
              <a:off x="2819520" y="3200400"/>
              <a:ext cx="824040" cy="288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1062" h="444">
                  <a:moveTo>
                    <a:pt x="0" y="444"/>
                  </a:moveTo>
                  <a:lnTo>
                    <a:pt x="137" y="279"/>
                  </a:lnTo>
                  <a:lnTo>
                    <a:pt x="1062" y="0"/>
                  </a:lnTo>
                  <a:lnTo>
                    <a:pt x="924" y="165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65"/>
            <p:cNvSpPr/>
            <p:nvPr/>
          </p:nvSpPr>
          <p:spPr>
            <a:xfrm rot="21052200">
              <a:off x="2854080" y="3295440"/>
              <a:ext cx="958320" cy="451800"/>
            </a:xfrm>
            <a:custGeom>
              <a:avLst/>
              <a:gdLst>
                <a:gd name="textAreaLeft" fmla="*/ 0 w 958320"/>
                <a:gd name="textAreaRight" fmla="*/ 958680 w 9583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235" h="696">
                  <a:moveTo>
                    <a:pt x="0" y="278"/>
                  </a:moveTo>
                  <a:lnTo>
                    <a:pt x="312" y="696"/>
                  </a:lnTo>
                  <a:lnTo>
                    <a:pt x="1235" y="422"/>
                  </a:lnTo>
                  <a:lnTo>
                    <a:pt x="924" y="0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66"/>
            <p:cNvSpPr/>
            <p:nvPr/>
          </p:nvSpPr>
          <p:spPr>
            <a:xfrm rot="21052200">
              <a:off x="3129840" y="3570840"/>
              <a:ext cx="789120" cy="2376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17" h="366">
                  <a:moveTo>
                    <a:pt x="0" y="239"/>
                  </a:moveTo>
                  <a:lnTo>
                    <a:pt x="91" y="366"/>
                  </a:lnTo>
                  <a:lnTo>
                    <a:pt x="1017" y="89"/>
                  </a:lnTo>
                  <a:lnTo>
                    <a:pt x="951" y="0"/>
                  </a:lnTo>
                  <a:lnTo>
                    <a:pt x="168" y="236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67"/>
            <p:cNvSpPr/>
            <p:nvPr/>
          </p:nvSpPr>
          <p:spPr>
            <a:xfrm rot="21052200">
              <a:off x="2608560" y="3548520"/>
              <a:ext cx="416520" cy="2707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537" h="417">
                  <a:moveTo>
                    <a:pt x="347" y="0"/>
                  </a:moveTo>
                  <a:lnTo>
                    <a:pt x="0" y="417"/>
                  </a:lnTo>
                  <a:lnTo>
                    <a:pt x="537" y="255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68"/>
            <p:cNvSpPr/>
            <p:nvPr/>
          </p:nvSpPr>
          <p:spPr>
            <a:xfrm rot="21052200">
              <a:off x="2561400" y="3834360"/>
              <a:ext cx="325080" cy="795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19" h="123">
                  <a:moveTo>
                    <a:pt x="104" y="0"/>
                  </a:moveTo>
                  <a:lnTo>
                    <a:pt x="0" y="123"/>
                  </a:lnTo>
                  <a:lnTo>
                    <a:pt x="419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69"/>
            <p:cNvSpPr/>
            <p:nvPr/>
          </p:nvSpPr>
          <p:spPr>
            <a:xfrm rot="21052200">
              <a:off x="2514240" y="3811320"/>
              <a:ext cx="155160" cy="388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00" h="60">
                  <a:moveTo>
                    <a:pt x="200" y="0"/>
                  </a:moveTo>
                  <a:lnTo>
                    <a:pt x="0" y="60"/>
                  </a:lnTo>
                  <a:lnTo>
                    <a:pt x="152" y="6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Freeform 70"/>
            <p:cNvSpPr/>
            <p:nvPr/>
          </p:nvSpPr>
          <p:spPr>
            <a:xfrm rot="21052200">
              <a:off x="2627280" y="3707280"/>
              <a:ext cx="504000" cy="10368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650" h="160">
                  <a:moveTo>
                    <a:pt x="531" y="0"/>
                  </a:moveTo>
                  <a:lnTo>
                    <a:pt x="0" y="160"/>
                  </a:lnTo>
                  <a:lnTo>
                    <a:pt x="650" y="160"/>
                  </a:lnTo>
                  <a:lnTo>
                    <a:pt x="5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71"/>
            <p:cNvSpPr/>
            <p:nvPr/>
          </p:nvSpPr>
          <p:spPr>
            <a:xfrm rot="21052200">
              <a:off x="3116520" y="3542040"/>
              <a:ext cx="845640" cy="178920"/>
            </a:xfrm>
            <a:custGeom>
              <a:avLst/>
              <a:gdLst>
                <a:gd name="textAreaLeft" fmla="*/ 0 w 845640"/>
                <a:gd name="textAreaRight" fmla="*/ 846000 w 84564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090" h="276">
                  <a:moveTo>
                    <a:pt x="0" y="276"/>
                  </a:moveTo>
                  <a:cubicBezTo>
                    <a:pt x="57" y="276"/>
                    <a:pt x="114" y="276"/>
                    <a:pt x="171" y="276"/>
                  </a:cubicBezTo>
                  <a:lnTo>
                    <a:pt x="1090" y="0"/>
                  </a:lnTo>
                  <a:lnTo>
                    <a:pt x="925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7" name="Group 72"/>
          <p:cNvGrpSpPr/>
          <p:nvPr/>
        </p:nvGrpSpPr>
        <p:grpSpPr>
          <a:xfrm>
            <a:off x="3809880" y="5105520"/>
            <a:ext cx="1523880" cy="1066320"/>
            <a:chOff x="3809880" y="5105520"/>
            <a:chExt cx="1523880" cy="1066320"/>
          </a:xfrm>
        </p:grpSpPr>
        <p:grpSp>
          <p:nvGrpSpPr>
            <p:cNvPr id="2528" name="Group 73"/>
            <p:cNvGrpSpPr/>
            <p:nvPr/>
          </p:nvGrpSpPr>
          <p:grpSpPr>
            <a:xfrm>
              <a:off x="3809880" y="5323680"/>
              <a:ext cx="1197720" cy="373680"/>
              <a:chOff x="3809880" y="5323680"/>
              <a:chExt cx="1197720" cy="373680"/>
            </a:xfrm>
          </p:grpSpPr>
          <p:sp>
            <p:nvSpPr>
              <p:cNvPr id="2529" name="Freeform 74"/>
              <p:cNvSpPr/>
              <p:nvPr/>
            </p:nvSpPr>
            <p:spPr>
              <a:xfrm>
                <a:off x="3819240" y="5326560"/>
                <a:ext cx="1178280" cy="3672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560" h="701">
                    <a:moveTo>
                      <a:pt x="703" y="701"/>
                    </a:moveTo>
                    <a:lnTo>
                      <a:pt x="0" y="319"/>
                    </a:lnTo>
                    <a:lnTo>
                      <a:pt x="1857" y="0"/>
                    </a:lnTo>
                    <a:lnTo>
                      <a:pt x="2560" y="382"/>
                    </a:lnTo>
                    <a:lnTo>
                      <a:pt x="703" y="701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75"/>
              <p:cNvSpPr/>
              <p:nvPr/>
            </p:nvSpPr>
            <p:spPr>
              <a:xfrm>
                <a:off x="3809880" y="5323680"/>
                <a:ext cx="1197720" cy="373680"/>
              </a:xfrm>
              <a:custGeom>
                <a:avLst/>
                <a:gdLst>
                  <a:gd name="textAreaLeft" fmla="*/ 0 w 1197720"/>
                  <a:gd name="textAreaRight" fmla="*/ 1198080 w 119772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5">
                    <a:moveTo>
                      <a:pt x="23" y="321"/>
                    </a:moveTo>
                    <a:lnTo>
                      <a:pt x="19" y="326"/>
                    </a:lnTo>
                    <a:lnTo>
                      <a:pt x="21" y="333"/>
                    </a:lnTo>
                    <a:lnTo>
                      <a:pt x="1877" y="13"/>
                    </a:lnTo>
                    <a:lnTo>
                      <a:pt x="1876" y="7"/>
                    </a:lnTo>
                    <a:lnTo>
                      <a:pt x="1873" y="12"/>
                    </a:lnTo>
                    <a:lnTo>
                      <a:pt x="2576" y="394"/>
                    </a:lnTo>
                    <a:lnTo>
                      <a:pt x="2579" y="389"/>
                    </a:lnTo>
                    <a:lnTo>
                      <a:pt x="2578" y="382"/>
                    </a:lnTo>
                    <a:lnTo>
                      <a:pt x="721" y="702"/>
                    </a:lnTo>
                    <a:lnTo>
                      <a:pt x="722" y="708"/>
                    </a:lnTo>
                    <a:lnTo>
                      <a:pt x="726" y="703"/>
                    </a:lnTo>
                    <a:lnTo>
                      <a:pt x="23" y="321"/>
                    </a:lnTo>
                    <a:close/>
                    <a:moveTo>
                      <a:pt x="719" y="714"/>
                    </a:moveTo>
                    <a:lnTo>
                      <a:pt x="721" y="715"/>
                    </a:lnTo>
                    <a:lnTo>
                      <a:pt x="724" y="715"/>
                    </a:lnTo>
                    <a:lnTo>
                      <a:pt x="2580" y="395"/>
                    </a:lnTo>
                    <a:lnTo>
                      <a:pt x="2599" y="392"/>
                    </a:lnTo>
                    <a:lnTo>
                      <a:pt x="2582" y="383"/>
                    </a:lnTo>
                    <a:lnTo>
                      <a:pt x="1879" y="1"/>
                    </a:lnTo>
                    <a:lnTo>
                      <a:pt x="1877" y="0"/>
                    </a:lnTo>
                    <a:lnTo>
                      <a:pt x="1875" y="0"/>
                    </a:lnTo>
                    <a:lnTo>
                      <a:pt x="18" y="320"/>
                    </a:lnTo>
                    <a:lnTo>
                      <a:pt x="0" y="323"/>
                    </a:lnTo>
                    <a:lnTo>
                      <a:pt x="16" y="332"/>
                    </a:lnTo>
                    <a:lnTo>
                      <a:pt x="719" y="714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1" name="Group 76"/>
            <p:cNvGrpSpPr/>
            <p:nvPr/>
          </p:nvGrpSpPr>
          <p:grpSpPr>
            <a:xfrm>
              <a:off x="3900960" y="5527800"/>
              <a:ext cx="1099800" cy="601560"/>
              <a:chOff x="3900960" y="5527800"/>
              <a:chExt cx="1099800" cy="601560"/>
            </a:xfrm>
          </p:grpSpPr>
          <p:sp>
            <p:nvSpPr>
              <p:cNvPr id="2532" name="Freeform 77"/>
              <p:cNvSpPr/>
              <p:nvPr/>
            </p:nvSpPr>
            <p:spPr>
              <a:xfrm>
                <a:off x="3906360" y="5532120"/>
                <a:ext cx="1088640" cy="59220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592200"/>
                  <a:gd name="textAreaBottom" fmla="*/ 592560 h 592200"/>
                </a:gdLst>
                <a:ahLst/>
                <a:rect l="textAreaLeft" t="textAreaTop" r="textAreaRight" b="textAreaBottom"/>
                <a:pathLst>
                  <a:path w="2364" h="1130">
                    <a:moveTo>
                      <a:pt x="500" y="317"/>
                    </a:moveTo>
                    <a:lnTo>
                      <a:pt x="0" y="1130"/>
                    </a:lnTo>
                    <a:lnTo>
                      <a:pt x="1864" y="813"/>
                    </a:lnTo>
                    <a:lnTo>
                      <a:pt x="2364" y="0"/>
                    </a:lnTo>
                    <a:lnTo>
                      <a:pt x="500" y="3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78"/>
              <p:cNvSpPr/>
              <p:nvPr/>
            </p:nvSpPr>
            <p:spPr>
              <a:xfrm>
                <a:off x="3900960" y="5527800"/>
                <a:ext cx="1099800" cy="601560"/>
              </a:xfrm>
              <a:custGeom>
                <a:avLst/>
                <a:gdLst>
                  <a:gd name="textAreaLeft" fmla="*/ 0 w 1099800"/>
                  <a:gd name="textAreaRight" fmla="*/ 1100160 w 109980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390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5" y="1146"/>
                    </a:lnTo>
                    <a:lnTo>
                      <a:pt x="1878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90" y="0"/>
                    </a:lnTo>
                    <a:lnTo>
                      <a:pt x="2375" y="2"/>
                    </a:lnTo>
                    <a:lnTo>
                      <a:pt x="512" y="320"/>
                    </a:lnTo>
                    <a:lnTo>
                      <a:pt x="509" y="320"/>
                    </a:lnTo>
                    <a:lnTo>
                      <a:pt x="509" y="322"/>
                    </a:lnTo>
                    <a:lnTo>
                      <a:pt x="9" y="1135"/>
                    </a:lnTo>
                    <a:close/>
                    <a:moveTo>
                      <a:pt x="519" y="331"/>
                    </a:moveTo>
                    <a:lnTo>
                      <a:pt x="513" y="326"/>
                    </a:lnTo>
                    <a:lnTo>
                      <a:pt x="514" y="333"/>
                    </a:lnTo>
                    <a:lnTo>
                      <a:pt x="2378" y="15"/>
                    </a:lnTo>
                    <a:lnTo>
                      <a:pt x="2377" y="9"/>
                    </a:lnTo>
                    <a:lnTo>
                      <a:pt x="2372" y="4"/>
                    </a:lnTo>
                    <a:lnTo>
                      <a:pt x="1872" y="817"/>
                    </a:lnTo>
                    <a:lnTo>
                      <a:pt x="1877" y="822"/>
                    </a:lnTo>
                    <a:lnTo>
                      <a:pt x="1876" y="815"/>
                    </a:lnTo>
                    <a:lnTo>
                      <a:pt x="12" y="1133"/>
                    </a:lnTo>
                    <a:lnTo>
                      <a:pt x="13" y="1139"/>
                    </a:lnTo>
                    <a:lnTo>
                      <a:pt x="19" y="1144"/>
                    </a:lnTo>
                    <a:lnTo>
                      <a:pt x="519" y="331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4" name="Group 79"/>
            <p:cNvGrpSpPr/>
            <p:nvPr/>
          </p:nvGrpSpPr>
          <p:grpSpPr>
            <a:xfrm>
              <a:off x="3923280" y="5142960"/>
              <a:ext cx="1332000" cy="1028880"/>
              <a:chOff x="3923280" y="5142960"/>
              <a:chExt cx="1332000" cy="1028880"/>
            </a:xfrm>
          </p:grpSpPr>
          <p:sp>
            <p:nvSpPr>
              <p:cNvPr id="2535" name="Freeform 80"/>
              <p:cNvSpPr/>
              <p:nvPr/>
            </p:nvSpPr>
            <p:spPr>
              <a:xfrm>
                <a:off x="3927240" y="5147280"/>
                <a:ext cx="1322280" cy="102096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1020960"/>
                  <a:gd name="textAreaBottom" fmla="*/ 1021320 h 1020960"/>
                </a:gdLst>
                <a:ahLst/>
                <a:rect l="textAreaLeft" t="textAreaTop" r="textAreaRight" b="textAreaBottom"/>
                <a:pathLst>
                  <a:path w="2870" h="1949">
                    <a:moveTo>
                      <a:pt x="1863" y="0"/>
                    </a:moveTo>
                    <a:lnTo>
                      <a:pt x="2870" y="1626"/>
                    </a:lnTo>
                    <a:lnTo>
                      <a:pt x="1007" y="1949"/>
                    </a:lnTo>
                    <a:lnTo>
                      <a:pt x="0" y="323"/>
                    </a:lnTo>
                    <a:lnTo>
                      <a:pt x="1863" y="0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81"/>
              <p:cNvSpPr/>
              <p:nvPr/>
            </p:nvSpPr>
            <p:spPr>
              <a:xfrm>
                <a:off x="3923280" y="5142960"/>
                <a:ext cx="1332000" cy="1028880"/>
              </a:xfrm>
              <a:custGeom>
                <a:avLst/>
                <a:gdLst>
                  <a:gd name="textAreaLeft" fmla="*/ 0 w 1332000"/>
                  <a:gd name="textAreaRight" fmla="*/ 1332000 w 1332000"/>
                  <a:gd name="textAreaTop" fmla="*/ 0 h 1028880"/>
                  <a:gd name="textAreaBottom" fmla="*/ 1029240 h 1028880"/>
                </a:gdLst>
                <a:ahLst/>
                <a:rect l="textAreaLeft" t="textAreaTop" r="textAreaRight" b="textAreaBottom"/>
                <a:pathLst>
                  <a:path w="2892" h="1965">
                    <a:moveTo>
                      <a:pt x="2877" y="1639"/>
                    </a:moveTo>
                    <a:lnTo>
                      <a:pt x="2881" y="1634"/>
                    </a:lnTo>
                    <a:lnTo>
                      <a:pt x="2880" y="1628"/>
                    </a:lnTo>
                    <a:lnTo>
                      <a:pt x="1017" y="1951"/>
                    </a:lnTo>
                    <a:lnTo>
                      <a:pt x="1018" y="1957"/>
                    </a:lnTo>
                    <a:lnTo>
                      <a:pt x="1023" y="1953"/>
                    </a:lnTo>
                    <a:lnTo>
                      <a:pt x="17" y="327"/>
                    </a:lnTo>
                    <a:lnTo>
                      <a:pt x="11" y="331"/>
                    </a:lnTo>
                    <a:lnTo>
                      <a:pt x="12" y="337"/>
                    </a:lnTo>
                    <a:lnTo>
                      <a:pt x="1876" y="14"/>
                    </a:lnTo>
                    <a:lnTo>
                      <a:pt x="1874" y="8"/>
                    </a:lnTo>
                    <a:lnTo>
                      <a:pt x="1870" y="12"/>
                    </a:lnTo>
                    <a:lnTo>
                      <a:pt x="2877" y="1639"/>
                    </a:lnTo>
                    <a:close/>
                    <a:moveTo>
                      <a:pt x="1880" y="3"/>
                    </a:moveTo>
                    <a:lnTo>
                      <a:pt x="1878" y="0"/>
                    </a:lnTo>
                    <a:lnTo>
                      <a:pt x="1873" y="1"/>
                    </a:lnTo>
                    <a:lnTo>
                      <a:pt x="10" y="324"/>
                    </a:lnTo>
                    <a:lnTo>
                      <a:pt x="0" y="327"/>
                    </a:lnTo>
                    <a:lnTo>
                      <a:pt x="7" y="335"/>
                    </a:lnTo>
                    <a:lnTo>
                      <a:pt x="1013" y="1962"/>
                    </a:lnTo>
                    <a:lnTo>
                      <a:pt x="1014" y="1965"/>
                    </a:lnTo>
                    <a:lnTo>
                      <a:pt x="1019" y="1964"/>
                    </a:lnTo>
                    <a:lnTo>
                      <a:pt x="2882" y="1641"/>
                    </a:lnTo>
                    <a:lnTo>
                      <a:pt x="2892" y="1640"/>
                    </a:lnTo>
                    <a:lnTo>
                      <a:pt x="2886" y="1630"/>
                    </a:lnTo>
                    <a:lnTo>
                      <a:pt x="1880" y="3"/>
                    </a:lnTo>
                    <a:close/>
                  </a:path>
                </a:pathLst>
              </a:cu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7" name="Group 82"/>
            <p:cNvGrpSpPr/>
            <p:nvPr/>
          </p:nvGrpSpPr>
          <p:grpSpPr>
            <a:xfrm>
              <a:off x="4129200" y="5105520"/>
              <a:ext cx="1100880" cy="599760"/>
              <a:chOff x="4129200" y="5105520"/>
              <a:chExt cx="1100880" cy="599760"/>
            </a:xfrm>
          </p:grpSpPr>
          <p:sp>
            <p:nvSpPr>
              <p:cNvPr id="2538" name="Freeform 83"/>
              <p:cNvSpPr/>
              <p:nvPr/>
            </p:nvSpPr>
            <p:spPr>
              <a:xfrm>
                <a:off x="4136040" y="5109840"/>
                <a:ext cx="1086840" cy="591840"/>
              </a:xfrm>
              <a:custGeom>
                <a:avLst/>
                <a:gdLst>
                  <a:gd name="textAreaLeft" fmla="*/ 0 w 1086840"/>
                  <a:gd name="textAreaRight" fmla="*/ 1087200 w 108684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2363" h="1131">
                    <a:moveTo>
                      <a:pt x="500" y="316"/>
                    </a:moveTo>
                    <a:lnTo>
                      <a:pt x="0" y="1131"/>
                    </a:lnTo>
                    <a:lnTo>
                      <a:pt x="1863" y="813"/>
                    </a:lnTo>
                    <a:lnTo>
                      <a:pt x="2363" y="0"/>
                    </a:lnTo>
                    <a:lnTo>
                      <a:pt x="500" y="31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Freeform 84"/>
              <p:cNvSpPr/>
              <p:nvPr/>
            </p:nvSpPr>
            <p:spPr>
              <a:xfrm>
                <a:off x="4129200" y="5105520"/>
                <a:ext cx="1100880" cy="59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599760"/>
                  <a:gd name="textAreaBottom" fmla="*/ 599760 h 599760"/>
                </a:gdLst>
                <a:ahLst/>
                <a:rect l="textAreaLeft" t="textAreaTop" r="textAreaRight" b="textAreaBottom"/>
                <a:pathLst>
                  <a:path w="2389" h="1148">
                    <a:moveTo>
                      <a:pt x="9" y="1135"/>
                    </a:moveTo>
                    <a:lnTo>
                      <a:pt x="0" y="1148"/>
                    </a:lnTo>
                    <a:lnTo>
                      <a:pt x="14" y="1146"/>
                    </a:lnTo>
                    <a:lnTo>
                      <a:pt x="1877" y="828"/>
                    </a:lnTo>
                    <a:lnTo>
                      <a:pt x="1881" y="828"/>
                    </a:lnTo>
                    <a:lnTo>
                      <a:pt x="1882" y="826"/>
                    </a:lnTo>
                    <a:lnTo>
                      <a:pt x="2382" y="13"/>
                    </a:lnTo>
                    <a:lnTo>
                      <a:pt x="2389" y="0"/>
                    </a:lnTo>
                    <a:lnTo>
                      <a:pt x="2375" y="2"/>
                    </a:lnTo>
                    <a:lnTo>
                      <a:pt x="512" y="319"/>
                    </a:lnTo>
                    <a:lnTo>
                      <a:pt x="509" y="319"/>
                    </a:lnTo>
                    <a:lnTo>
                      <a:pt x="509" y="321"/>
                    </a:lnTo>
                    <a:lnTo>
                      <a:pt x="9" y="1135"/>
                    </a:lnTo>
                    <a:close/>
                    <a:moveTo>
                      <a:pt x="518" y="330"/>
                    </a:moveTo>
                    <a:lnTo>
                      <a:pt x="513" y="325"/>
                    </a:lnTo>
                    <a:lnTo>
                      <a:pt x="514" y="332"/>
                    </a:lnTo>
                    <a:lnTo>
                      <a:pt x="2377" y="15"/>
                    </a:lnTo>
                    <a:lnTo>
                      <a:pt x="2376" y="9"/>
                    </a:lnTo>
                    <a:lnTo>
                      <a:pt x="2372" y="4"/>
                    </a:lnTo>
                    <a:lnTo>
                      <a:pt x="1872" y="818"/>
                    </a:lnTo>
                    <a:lnTo>
                      <a:pt x="1876" y="822"/>
                    </a:lnTo>
                    <a:lnTo>
                      <a:pt x="1875" y="815"/>
                    </a:lnTo>
                    <a:lnTo>
                      <a:pt x="12" y="1133"/>
                    </a:lnTo>
                    <a:lnTo>
                      <a:pt x="13" y="1140"/>
                    </a:lnTo>
                    <a:lnTo>
                      <a:pt x="19" y="1144"/>
                    </a:lnTo>
                    <a:lnTo>
                      <a:pt x="518" y="33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0" name="Group 85"/>
            <p:cNvGrpSpPr/>
            <p:nvPr/>
          </p:nvGrpSpPr>
          <p:grpSpPr>
            <a:xfrm>
              <a:off x="4137120" y="5531040"/>
              <a:ext cx="1196640" cy="373680"/>
              <a:chOff x="4137120" y="5531040"/>
              <a:chExt cx="1196640" cy="373680"/>
            </a:xfrm>
          </p:grpSpPr>
          <p:sp>
            <p:nvSpPr>
              <p:cNvPr id="2541" name="Freeform 86"/>
              <p:cNvSpPr/>
              <p:nvPr/>
            </p:nvSpPr>
            <p:spPr>
              <a:xfrm>
                <a:off x="4145400" y="5533920"/>
                <a:ext cx="1179720" cy="3675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560" h="703">
                    <a:moveTo>
                      <a:pt x="703" y="703"/>
                    </a:moveTo>
                    <a:lnTo>
                      <a:pt x="0" y="321"/>
                    </a:lnTo>
                    <a:lnTo>
                      <a:pt x="1857" y="0"/>
                    </a:lnTo>
                    <a:lnTo>
                      <a:pt x="2560" y="383"/>
                    </a:lnTo>
                    <a:lnTo>
                      <a:pt x="703" y="703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87"/>
              <p:cNvSpPr/>
              <p:nvPr/>
            </p:nvSpPr>
            <p:spPr>
              <a:xfrm>
                <a:off x="4137120" y="5531040"/>
                <a:ext cx="1196640" cy="373680"/>
              </a:xfrm>
              <a:custGeom>
                <a:avLst/>
                <a:gdLst>
                  <a:gd name="textAreaLeft" fmla="*/ 0 w 1196640"/>
                  <a:gd name="textAreaRight" fmla="*/ 1197000 w 1196640"/>
                  <a:gd name="textAreaTop" fmla="*/ 0 h 373680"/>
                  <a:gd name="textAreaBottom" fmla="*/ 374040 h 373680"/>
                </a:gdLst>
                <a:ahLst/>
                <a:rect l="textAreaLeft" t="textAreaTop" r="textAreaRight" b="textAreaBottom"/>
                <a:pathLst>
                  <a:path w="2599" h="716">
                    <a:moveTo>
                      <a:pt x="23" y="322"/>
                    </a:moveTo>
                    <a:lnTo>
                      <a:pt x="20" y="328"/>
                    </a:lnTo>
                    <a:lnTo>
                      <a:pt x="21" y="334"/>
                    </a:lnTo>
                    <a:lnTo>
                      <a:pt x="1878" y="13"/>
                    </a:lnTo>
                    <a:lnTo>
                      <a:pt x="1877" y="7"/>
                    </a:lnTo>
                    <a:lnTo>
                      <a:pt x="1873" y="12"/>
                    </a:lnTo>
                    <a:lnTo>
                      <a:pt x="2576" y="395"/>
                    </a:lnTo>
                    <a:lnTo>
                      <a:pt x="2580" y="390"/>
                    </a:lnTo>
                    <a:lnTo>
                      <a:pt x="2579" y="383"/>
                    </a:lnTo>
                    <a:lnTo>
                      <a:pt x="722" y="703"/>
                    </a:lnTo>
                    <a:lnTo>
                      <a:pt x="723" y="710"/>
                    </a:lnTo>
                    <a:lnTo>
                      <a:pt x="726" y="704"/>
                    </a:lnTo>
                    <a:lnTo>
                      <a:pt x="23" y="322"/>
                    </a:lnTo>
                    <a:close/>
                    <a:moveTo>
                      <a:pt x="720" y="715"/>
                    </a:moveTo>
                    <a:lnTo>
                      <a:pt x="722" y="716"/>
                    </a:lnTo>
                    <a:lnTo>
                      <a:pt x="724" y="716"/>
                    </a:lnTo>
                    <a:lnTo>
                      <a:pt x="2581" y="396"/>
                    </a:lnTo>
                    <a:lnTo>
                      <a:pt x="2599" y="393"/>
                    </a:lnTo>
                    <a:lnTo>
                      <a:pt x="2583" y="384"/>
                    </a:lnTo>
                    <a:lnTo>
                      <a:pt x="1880" y="1"/>
                    </a:lnTo>
                    <a:lnTo>
                      <a:pt x="1878" y="0"/>
                    </a:lnTo>
                    <a:lnTo>
                      <a:pt x="1876" y="0"/>
                    </a:lnTo>
                    <a:lnTo>
                      <a:pt x="19" y="321"/>
                    </a:lnTo>
                    <a:lnTo>
                      <a:pt x="0" y="324"/>
                    </a:lnTo>
                    <a:lnTo>
                      <a:pt x="17" y="333"/>
                    </a:lnTo>
                    <a:lnTo>
                      <a:pt x="720" y="715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3" name="Text Box 88"/>
          <p:cNvSpPr/>
          <p:nvPr/>
        </p:nvSpPr>
        <p:spPr>
          <a:xfrm>
            <a:off x="228600" y="1143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Successfully solve for x, y and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Text Box 89"/>
          <p:cNvSpPr/>
          <p:nvPr/>
        </p:nvSpPr>
        <p:spPr>
          <a:xfrm>
            <a:off x="304920" y="19810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nnot eliminat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variables.  You get an untrue statement. (e.g. S1 gives 0=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Text Box 90"/>
          <p:cNvSpPr/>
          <p:nvPr/>
        </p:nvSpPr>
        <p:spPr>
          <a:xfrm>
            <a:off x="5486400" y="3429000"/>
            <a:ext cx="34290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tersect on parallel </a:t>
            </a:r>
            <a:r>
              <a:rPr b="0" i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Text Box 92"/>
          <p:cNvSpPr/>
          <p:nvPr/>
        </p:nvSpPr>
        <p:spPr>
          <a:xfrm>
            <a:off x="5638680" y="10666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A Unique Solution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 Can solve. “Planes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meet at a point”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Text Box 93"/>
          <p:cNvSpPr/>
          <p:nvPr/>
        </p:nvSpPr>
        <p:spPr>
          <a:xfrm>
            <a:off x="5410080" y="2057400"/>
            <a:ext cx="35053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Inconsist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No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Parallel plan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Text Box 95"/>
          <p:cNvSpPr/>
          <p:nvPr/>
        </p:nvSpPr>
        <p:spPr>
          <a:xfrm>
            <a:off x="762120" y="533520"/>
            <a:ext cx="7619760" cy="398880"/>
          </a:xfrm>
          <a:prstGeom prst="rect">
            <a:avLst/>
          </a:prstGeom>
          <a:solidFill>
            <a:srgbClr val="ffff99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trick is to try and solve it and see how far you ge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Text Box 96"/>
          <p:cNvSpPr/>
          <p:nvPr/>
        </p:nvSpPr>
        <p:spPr>
          <a:xfrm>
            <a:off x="228600" y="3200400"/>
            <a:ext cx="22860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the new equations c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– S2 gives 0=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Text Box 97"/>
          <p:cNvSpPr/>
          <p:nvPr/>
        </p:nvSpPr>
        <p:spPr>
          <a:xfrm>
            <a:off x="4800600" y="274320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All 3 equations share </a:t>
            </a:r>
            <a:r>
              <a:rPr b="1" lang="en-NZ" sz="1400" spc="-1" strike="noStrike" u="sng">
                <a:solidFill>
                  <a:srgbClr val="000000"/>
                </a:solidFill>
                <a:uFillTx/>
                <a:latin typeface="Comic Sans MS"/>
              </a:rPr>
              <a:t>same ratio of coefficients</a:t>
            </a:r>
            <a:r>
              <a:rPr b="0" lang="en-NZ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Text Box 91"/>
          <p:cNvSpPr/>
          <p:nvPr/>
        </p:nvSpPr>
        <p:spPr>
          <a:xfrm>
            <a:off x="5334120" y="5037120"/>
            <a:ext cx="358128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on-independent”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  Infinite number of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3 Different planes, but they “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all meet on a common line”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Text Box 95"/>
          <p:cNvSpPr/>
          <p:nvPr/>
        </p:nvSpPr>
        <p:spPr>
          <a:xfrm>
            <a:off x="228600" y="5257800"/>
            <a:ext cx="3809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liminate a variable but you keep getting the same equ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E.g. S1 = S2 = 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TextBox 98"/>
          <p:cNvSpPr/>
          <p:nvPr/>
        </p:nvSpPr>
        <p:spPr>
          <a:xfrm>
            <a:off x="317520" y="6486480"/>
            <a:ext cx="70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Hint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ne equation will be a linear combination of the othe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LESSONS 5 &amp; 6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564b3c"/>
                </a:solidFill>
                <a:latin typeface="Century Gothic"/>
              </a:rPr>
              <a:t>Simultaneous equations word problem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  <a:ea typeface="Arial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 – Geometric interpretations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228600" y="4495680"/>
            <a:ext cx="8686800" cy="21337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2.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Consider the following system of three equations in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, 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nd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5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a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8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7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1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Give values for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a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nd </a:t>
            </a:r>
            <a:r>
              <a:rPr b="1" i="1" lang="en-GB" sz="1800" spc="-1" strike="noStrike">
                <a:solidFill>
                  <a:srgbClr val="000000"/>
                </a:solidFill>
                <a:latin typeface="TimesNewRomanPS-ItalicMT"/>
              </a:rPr>
              <a:t>b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in the second equation that make this system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consistent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, but with an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infinite set of solutions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Rectangle 5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Rectangle 7"/>
          <p:cNvSpPr/>
          <p:nvPr/>
        </p:nvSpPr>
        <p:spPr>
          <a:xfrm>
            <a:off x="152280" y="457200"/>
            <a:ext cx="8839440" cy="1981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NewRomanPSMT"/>
              </a:rPr>
              <a:t>1. </a:t>
            </a:r>
            <a:r>
              <a:rPr b="0" lang="en-GB" sz="1600" spc="-1" strike="noStrike">
                <a:solidFill>
                  <a:srgbClr val="000000"/>
                </a:solidFill>
                <a:latin typeface="TimesNewRomanPSMT"/>
              </a:rPr>
              <a:t>Consider this system of linear eq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3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–  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4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-9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+  6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y –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 12</a:t>
            </a:r>
            <a:r>
              <a:rPr b="0" i="1" lang="en-GB" sz="1800" spc="-1" strike="noStrike">
                <a:solidFill>
                  <a:srgbClr val="000000"/>
                </a:solidFill>
                <a:latin typeface="TimesNewRomanPS-ItalicMT"/>
              </a:rPr>
              <a:t>z  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=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Give a </a:t>
            </a:r>
            <a:r>
              <a:rPr b="1" lang="en-GB" sz="1800" spc="-1" strike="noStrike">
                <a:solidFill>
                  <a:srgbClr val="000000"/>
                </a:solidFill>
                <a:latin typeface="TimesNewRomanPSMT"/>
              </a:rPr>
              <a:t>geometrical</a:t>
            </a: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 description of how the planes represented by these three equations relate to each </a:t>
            </a:r>
            <a:r>
              <a:rPr b="0" lang="en-GB" sz="1800" spc="-1" strike="noStrike">
                <a:solidFill>
                  <a:srgbClr val="231f20"/>
                </a:solidFill>
                <a:latin typeface="TimesNewRomanPSMT"/>
              </a:rPr>
              <a:t>other. Give mathematical reasons to justify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Text Box 11"/>
          <p:cNvSpPr/>
          <p:nvPr/>
        </p:nvSpPr>
        <p:spPr>
          <a:xfrm>
            <a:off x="7391520" y="4724280"/>
            <a:ext cx="1218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6 NCEA Q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Rectangle 5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6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7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8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nderline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ariables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quations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1" lang="en-NZ" sz="1800" spc="-1" strike="noStrike" u="sng">
                <a:solidFill>
                  <a:srgbClr val="0000cc"/>
                </a:solidFill>
                <a:uFillTx/>
                <a:latin typeface="Comic Sans MS"/>
              </a:rPr>
              <a:t>onclusion</a:t>
            </a:r>
            <a:r>
              <a:rPr b="1" lang="en-NZ" sz="1800" spc="-1" strike="noStrike">
                <a:solidFill>
                  <a:srgbClr val="0000cc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Oval 9"/>
          <p:cNvSpPr/>
          <p:nvPr/>
        </p:nvSpPr>
        <p:spPr>
          <a:xfrm>
            <a:off x="1371600" y="609480"/>
            <a:ext cx="3049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-BoldMT"/>
              </a:rPr>
              <a:t>Achieving in Statistics” pg. 79 – Q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A pizza shop sells pizza of three sizes, small, medium &amp; large. The price is fixed for each size independent of the topping chosen.  A large pizza costs as much as a medium and a small pizza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Mark bought one of each size and paid $29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NewRomanPSMT"/>
              </a:rPr>
              <a:t>Sean bought two small and one large pizza and paid $26.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NewRomanPSMT"/>
              </a:rPr>
              <a:t>Find the price of each type of piz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Text Box 10"/>
          <p:cNvSpPr/>
          <p:nvPr/>
        </p:nvSpPr>
        <p:spPr>
          <a:xfrm>
            <a:off x="685800" y="2362320"/>
            <a:ext cx="7848720" cy="3542040"/>
          </a:xfrm>
          <a:prstGeom prst="rect">
            <a:avLst/>
          </a:prstGeom>
          <a:solidFill>
            <a:srgbClr val="ffffd9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1.) Do pg. 79 of “Achieving in Statis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NuLake: Do 4.4 “Applications of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im. Eq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pgs 18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93 – Q2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Rectangle 6"/>
          <p:cNvSpPr/>
          <p:nvPr/>
        </p:nvSpPr>
        <p:spPr>
          <a:xfrm>
            <a:off x="228600" y="2514600"/>
            <a:ext cx="8686800" cy="3886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TimesNewRomanPSMT"/>
              </a:rPr>
              <a:t>2007 NCEA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ickets for the high school production were sold for $5, $8 and $15, depending on where the ticket holder will be s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total number of tickets sold was 3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number of $8 tickets sold was 30 more than twice the number of $15 ticket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The total amount of money received from the ticket sales was $25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1f20"/>
                </a:solidFill>
                <a:latin typeface="TimesNewRomanPSMT"/>
              </a:rPr>
              <a:t>Set up and solve a system of equations to find the number of $5, $8 and $15 tickets s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Rectangle 7"/>
          <p:cNvSpPr/>
          <p:nvPr/>
        </p:nvSpPr>
        <p:spPr>
          <a:xfrm>
            <a:off x="228600" y="76212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im. Equations: Word Problems (UV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3"/>
          <p:cNvSpPr/>
          <p:nvPr/>
        </p:nvSpPr>
        <p:spPr>
          <a:xfrm>
            <a:off x="4788000" y="4869000"/>
            <a:ext cx="381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4"/>
          <p:cNvSpPr/>
          <p:nvPr/>
        </p:nvSpPr>
        <p:spPr>
          <a:xfrm>
            <a:off x="6048360" y="1906560"/>
            <a:ext cx="3240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5"/>
          <p:cNvSpPr/>
          <p:nvPr/>
        </p:nvSpPr>
        <p:spPr>
          <a:xfrm>
            <a:off x="4643280" y="692280"/>
            <a:ext cx="324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6"/>
          <p:cNvSpPr/>
          <p:nvPr/>
        </p:nvSpPr>
        <p:spPr>
          <a:xfrm>
            <a:off x="228600" y="2209680"/>
            <a:ext cx="8686800" cy="464832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TimesNewRomanPSMT"/>
              </a:rPr>
              <a:t>2006 NCEA Q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NewRomanPSMT"/>
              </a:rPr>
              <a:t>Marni’s friend Jane makes and sells three different types of icecream. Over the last three days, she has kept a tally of how many containers of each type she has made. This is summarised in the table below. On the first day, she spent a total of 145 minutes making icecream, the second day, 130 minutes, and on the third day two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NewRomanPSMT"/>
              </a:rPr>
              <a:t>Set up and solve a system of linear equations to find the type of icecream for which the time taken to produce each container is the small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7"/>
          <p:cNvSpPr/>
          <p:nvPr/>
        </p:nvSpPr>
        <p:spPr>
          <a:xfrm>
            <a:off x="228600" y="457200"/>
            <a:ext cx="8915400" cy="160020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1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2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Variable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- Define your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3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Equations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and solve your system of simultaneous eq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TEP 4: 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lusio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– write your answer in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5" name="Picture 9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364160" cy="1722240"/>
          </a:xfrm>
          <a:prstGeom prst="rect">
            <a:avLst/>
          </a:prstGeom>
          <a:ln w="0">
            <a:noFill/>
          </a:ln>
        </p:spPr>
      </p:pic>
      <p:sp>
        <p:nvSpPr>
          <p:cNvPr id="2596" name="Text Box 10"/>
          <p:cNvSpPr/>
          <p:nvPr/>
        </p:nvSpPr>
        <p:spPr>
          <a:xfrm>
            <a:off x="685800" y="2362320"/>
            <a:ext cx="7848720" cy="3968640"/>
          </a:xfrm>
          <a:prstGeom prst="rect">
            <a:avLst/>
          </a:prstGeom>
          <a:solidFill>
            <a:srgbClr val="ffffd9"/>
          </a:solidFill>
          <a:ln w="85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1.) Do pg. 78 &amp; 79 of “Achieving in Statistic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NuLake: Do 4.4 “Applications of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im. Eq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(pgs 18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93 – Q29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-11772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Graphing Simultaneous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The “solutions” to a pair of simultaneous equations are the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and </a:t>
            </a:r>
            <a:r>
              <a:rPr b="1" i="1" lang="en-NZ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co-ordinates where the two lines they represent inters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But they don’t always intersect at a point.  There are 3 possibilities (think U.N.I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ique solu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The usual – where there is a unique solution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.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is means that the 2 lines represented by the equations intersect at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ique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and its coordinates are given by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o solu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ere is no solution – lines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tersect because they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arall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The 2 equations are said t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 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nconsis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” with one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nfinite number of solu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en both equations are actually for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423720" y="826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the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0.0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488880" y="4597560"/>
            <a:ext cx="46958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6"/>
          <p:cNvGrpSpPr/>
          <p:nvPr/>
        </p:nvGrpSpPr>
        <p:grpSpPr>
          <a:xfrm>
            <a:off x="6299280" y="2766960"/>
            <a:ext cx="1706400" cy="2183040"/>
            <a:chOff x="6299280" y="2766960"/>
            <a:chExt cx="1706400" cy="2183040"/>
          </a:xfrm>
        </p:grpSpPr>
        <p:sp>
          <p:nvSpPr>
            <p:cNvPr id="711" name="Rectangle 7"/>
            <p:cNvSpPr/>
            <p:nvPr/>
          </p:nvSpPr>
          <p:spPr>
            <a:xfrm>
              <a:off x="6408720" y="2911320"/>
              <a:ext cx="28440" cy="1895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"/>
            <p:cNvSpPr/>
            <p:nvPr/>
          </p:nvSpPr>
          <p:spPr>
            <a:xfrm>
              <a:off x="6348240" y="2766960"/>
              <a:ext cx="149400" cy="1476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99" h="198">
                  <a:moveTo>
                    <a:pt x="199" y="198"/>
                  </a:moveTo>
                  <a:lnTo>
                    <a:pt x="99" y="0"/>
                  </a:lnTo>
                  <a:lnTo>
                    <a:pt x="0" y="198"/>
                  </a:lnTo>
                  <a:lnTo>
                    <a:pt x="199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9"/>
            <p:cNvSpPr/>
            <p:nvPr/>
          </p:nvSpPr>
          <p:spPr>
            <a:xfrm>
              <a:off x="6408720" y="3614760"/>
              <a:ext cx="28440" cy="50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"/>
            <p:cNvSpPr/>
            <p:nvPr/>
          </p:nvSpPr>
          <p:spPr>
            <a:xfrm>
              <a:off x="6299280" y="4581360"/>
              <a:ext cx="1562040" cy="28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1"/>
            <p:cNvSpPr/>
            <p:nvPr/>
          </p:nvSpPr>
          <p:spPr>
            <a:xfrm>
              <a:off x="7858080" y="4521240"/>
              <a:ext cx="147600" cy="1508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198" h="201">
                  <a:moveTo>
                    <a:pt x="0" y="201"/>
                  </a:moveTo>
                  <a:lnTo>
                    <a:pt x="198" y="100"/>
                  </a:lnTo>
                  <a:lnTo>
                    <a:pt x="0" y="0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6657840" y="4740120"/>
              <a:ext cx="13338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Rectangle 13"/>
          <p:cNvSpPr/>
          <p:nvPr/>
        </p:nvSpPr>
        <p:spPr>
          <a:xfrm>
            <a:off x="409680" y="-44280"/>
            <a:ext cx="66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33720"/>
                <a:tab algn="l" pos="3970440"/>
                <a:tab algn="l" pos="4610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kind of solution do the simultaneous equ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3905280" y="880920"/>
            <a:ext cx="44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e: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is the same a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–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15"/>
          <p:cNvGrpSpPr/>
          <p:nvPr/>
        </p:nvGrpSpPr>
        <p:grpSpPr>
          <a:xfrm>
            <a:off x="1440000" y="880920"/>
            <a:ext cx="1259640" cy="1129680"/>
            <a:chOff x="1440000" y="880920"/>
            <a:chExt cx="1259640" cy="1129680"/>
          </a:xfrm>
        </p:grpSpPr>
        <p:sp>
          <p:nvSpPr>
            <p:cNvPr id="720" name="Rectangle 16"/>
            <p:cNvSpPr/>
            <p:nvPr/>
          </p:nvSpPr>
          <p:spPr>
            <a:xfrm>
              <a:off x="1465560" y="880920"/>
              <a:ext cx="123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7"/>
            <p:cNvSpPr/>
            <p:nvPr/>
          </p:nvSpPr>
          <p:spPr>
            <a:xfrm>
              <a:off x="1440000" y="155088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Rectangle 18"/>
          <p:cNvSpPr/>
          <p:nvPr/>
        </p:nvSpPr>
        <p:spPr>
          <a:xfrm>
            <a:off x="3912120" y="21049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9"/>
          <p:cNvSpPr/>
          <p:nvPr/>
        </p:nvSpPr>
        <p:spPr>
          <a:xfrm>
            <a:off x="1753560" y="2220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0"/>
          <p:cNvSpPr/>
          <p:nvPr/>
        </p:nvSpPr>
        <p:spPr>
          <a:xfrm>
            <a:off x="1557720" y="28908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1"/>
          <p:cNvSpPr/>
          <p:nvPr/>
        </p:nvSpPr>
        <p:spPr>
          <a:xfrm>
            <a:off x="1914480" y="356076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2"/>
          <p:cNvSpPr/>
          <p:nvPr/>
        </p:nvSpPr>
        <p:spPr>
          <a:xfrm>
            <a:off x="412560" y="356076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3"/>
          <p:cNvSpPr/>
          <p:nvPr/>
        </p:nvSpPr>
        <p:spPr>
          <a:xfrm>
            <a:off x="394200" y="4608360"/>
            <a:ext cx="48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quations have a uniqu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4"/>
          <p:cNvSpPr/>
          <p:nvPr/>
        </p:nvSpPr>
        <p:spPr>
          <a:xfrm>
            <a:off x="401040" y="548640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ketch the grap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25"/>
          <p:cNvGrpSpPr/>
          <p:nvPr/>
        </p:nvGrpSpPr>
        <p:grpSpPr>
          <a:xfrm>
            <a:off x="6226200" y="2943360"/>
            <a:ext cx="2153520" cy="1879560"/>
            <a:chOff x="6226200" y="2943360"/>
            <a:chExt cx="2153520" cy="1879560"/>
          </a:xfrm>
        </p:grpSpPr>
        <p:sp>
          <p:nvSpPr>
            <p:cNvPr id="730" name="Rectangle 26"/>
            <p:cNvSpPr/>
            <p:nvPr/>
          </p:nvSpPr>
          <p:spPr>
            <a:xfrm>
              <a:off x="7602840" y="2943360"/>
              <a:ext cx="77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ff3399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7"/>
            <p:cNvSpPr/>
            <p:nvPr/>
          </p:nvSpPr>
          <p:spPr>
            <a:xfrm flipV="1">
              <a:off x="6226200" y="3181320"/>
              <a:ext cx="1339920" cy="164160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28"/>
          <p:cNvGrpSpPr/>
          <p:nvPr/>
        </p:nvGrpSpPr>
        <p:grpSpPr>
          <a:xfrm>
            <a:off x="6124680" y="3081240"/>
            <a:ext cx="2644560" cy="1422000"/>
            <a:chOff x="6124680" y="3081240"/>
            <a:chExt cx="2644560" cy="1422000"/>
          </a:xfrm>
        </p:grpSpPr>
        <p:sp>
          <p:nvSpPr>
            <p:cNvPr id="733" name="Rectangle 29"/>
            <p:cNvSpPr/>
            <p:nvPr/>
          </p:nvSpPr>
          <p:spPr>
            <a:xfrm>
              <a:off x="7515360" y="404352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+ </a:t>
              </a:r>
              <a:r>
                <a:rPr b="0" i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y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0"/>
            <p:cNvSpPr/>
            <p:nvPr/>
          </p:nvSpPr>
          <p:spPr>
            <a:xfrm>
              <a:off x="6124680" y="3081240"/>
              <a:ext cx="1641240" cy="105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31"/>
          <p:cNvGrpSpPr/>
          <p:nvPr/>
        </p:nvGrpSpPr>
        <p:grpSpPr>
          <a:xfrm>
            <a:off x="5679720" y="3769920"/>
            <a:ext cx="2631960" cy="1892520"/>
            <a:chOff x="5679720" y="3769920"/>
            <a:chExt cx="2631960" cy="1892520"/>
          </a:xfrm>
        </p:grpSpPr>
        <p:sp>
          <p:nvSpPr>
            <p:cNvPr id="736" name="Rectangle 32"/>
            <p:cNvSpPr/>
            <p:nvPr/>
          </p:nvSpPr>
          <p:spPr>
            <a:xfrm>
              <a:off x="5679720" y="516096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Unique inters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3"/>
            <p:cNvSpPr/>
            <p:nvPr/>
          </p:nvSpPr>
          <p:spPr>
            <a:xfrm>
              <a:off x="5697000" y="5173560"/>
              <a:ext cx="2614680" cy="488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4"/>
            <p:cNvSpPr/>
            <p:nvPr/>
          </p:nvSpPr>
          <p:spPr>
            <a:xfrm flipV="1">
              <a:off x="7137000" y="3769920"/>
              <a:ext cx="0" cy="139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B</dc:creator>
  <dc:description/>
  <dc:language>en-US</dc:language>
  <cp:lastModifiedBy>Jeremy Brocklehurst</cp:lastModifiedBy>
  <dcterms:modified xsi:type="dcterms:W3CDTF">2011-01-22T01:15:06Z</dcterms:modified>
  <cp:revision>1796</cp:revision>
  <dc:subject>Year 13 Statistics &amp; Modelling</dc:subject>
  <dc:title>Simultaneous Equations 2010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